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041B6-6899-419B-AB62-DAE2A8B4378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mandalatv.net/itp/drivebys/css/" TargetMode="External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1B8A5-1184-46E7-B838-AFDE561B7180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Times New Roman"/>
                <a:ea typeface="MS Gothic"/>
                <a:hlinkClick r:id="rId1"/>
              </a:rPr>
              <a:t>http://www.mandalatv.net/itp/drivebys/css/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Wikipedia (Box Mod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D5626-73B5-4D29-AA40-9F64B53F2AA3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Imagem retirada de: http://www.flickr.com/photos/24413864@N05/4044264068/sizes/l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823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 e problema com container pai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righ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absolu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243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o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2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ixe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C6B41-2F14-4C9A-A758-026E00D6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5F972-14D9-46D9-8CE4-D6E7DF55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E237-3D78-491E-ACEA-BBE96992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FCF35-FB01-4156-964A-6F452F8D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58620-C38D-41CD-87F3-73F77F4F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1F06C-3548-4D71-9D02-1DEFA06D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EB24C-77F3-4969-BD94-D36E2D4D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8BE7E-A9BB-4D4E-B07B-D4B0D930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120D2-AD98-41A8-8B46-F8F784F5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92CC0-80F8-4B51-9985-090B5F3F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292F0-122B-4502-8266-70E037CB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B5B21-7620-478E-A791-E3AC245F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D8302-B54A-46B1-918B-8FAEF61F6AAB}" type="slidenum">
              <a:rPr b="0" lang="pt-BR" sz="1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0/27/posicionamento-de-elementos-em-css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ableless.com.br/propriedade-position-do-css" TargetMode="External"/><Relationship Id="rId2" Type="http://schemas.openxmlformats.org/officeDocument/2006/relationships/hyperlink" Target="http://www.pt-br.html.net/tutorials/css/lesson13.asp" TargetMode="External"/><Relationship Id="rId3" Type="http://schemas.openxmlformats.org/officeDocument/2006/relationships/hyperlink" Target="http://www.pt-br.html.net/tutorials/css/lesson14.asp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de Elemento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3D92D-3A03-43E7-9AF3-F2FAE578369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Exemplos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MS Gothic"/>
              </a:rPr>
              <a:t>Exemplos em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480" y="44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Lembre-se do Box model!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43080" y="928800"/>
            <a:ext cx="5888160" cy="5841720"/>
            <a:chOff x="2143080" y="928800"/>
            <a:chExt cx="5888160" cy="5841720"/>
          </a:xfrm>
        </p:grpSpPr>
        <p:graphicFrame>
          <p:nvGraphicFramePr>
            <p:cNvPr id="89" name=""/>
            <p:cNvGraphicFramePr/>
            <p:nvPr/>
          </p:nvGraphicFramePr>
          <p:xfrm>
            <a:off x="2143080" y="928800"/>
            <a:ext cx="5888160" cy="58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43080" y="928800"/>
                      <a:ext cx="5888160" cy="58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2143080" y="928800"/>
              <a:ext cx="5888160" cy="58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Box model para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elementos em bloco</a:t>
            </a:r>
            <a:br>
              <a:rPr sz="3200"/>
            </a:b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IE (6 e 7) x Resto do Mundo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340000" y="1484280"/>
            <a:ext cx="4324320" cy="5372280"/>
            <a:chOff x="2340000" y="1484280"/>
            <a:chExt cx="4324320" cy="53722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4324320" cy="537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340000" y="1484280"/>
              <a:ext cx="4324320" cy="53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Visualizar o Box Model com Firebug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Instalar o Firebug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http://www.getfirebug.com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ecla F12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169C6-3947-4C75-9420-B4706196DE1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71720" y="5072040"/>
            <a:ext cx="703872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0"/>
            <a:ext cx="8085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700360"/>
            <a:ext cx="504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Determina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 de um elemento em relação ao fluxo da página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971FD-0191-442F-812A-54EC285C103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00720" y="179280"/>
            <a:ext cx="3465360" cy="62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ne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BBC3C-C3C4-4A99-9AA9-A3E35473C49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2747880"/>
            <a:ext cx="4140360" cy="2652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19640" y="2700360"/>
            <a:ext cx="45622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0360" y="1079640"/>
            <a:ext cx="828036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F406E-56DB-4E46-B13F-3FD19C3F742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3060720"/>
            <a:ext cx="46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4230720" cy="17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200" y="1619280"/>
            <a:ext cx="86328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179280"/>
            <a:ext cx="8805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blema: o contâiner pai se adapta aos elementos colocados depois do elemento com o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5BCB3-C2B0-412E-92AF-4B7F6A02843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3240000"/>
            <a:ext cx="88506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hecemos, no semestre passado diversos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seletores e propriedade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CS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mbém trabalhamos com propriedade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mens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(box model)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sso objetivo hoje será iniciar o trabalh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clear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trola o comportamento de um elemento em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 relação ao estado de 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s element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 possívei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both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77931-C20A-4959-A9AF-D6812B83F9B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lef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F927B-5969-41D0-B5DA-8C70DE3E40B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760" y="4114800"/>
            <a:ext cx="3162240" cy="2743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19640" y="4319640"/>
            <a:ext cx="45910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9840" y="900000"/>
            <a:ext cx="84801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66318-BE39-4011-B568-B1E4E9DC1A3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4162320"/>
            <a:ext cx="3029040" cy="2695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087800" y="4319640"/>
            <a:ext cx="455292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7200" y="873000"/>
            <a:ext cx="863280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both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9B9C3-91C6-41E5-8B83-DE1B602E505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9840" y="4278240"/>
            <a:ext cx="2990880" cy="2381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40360" y="4319640"/>
            <a:ext cx="46195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8120" y="1225440"/>
            <a:ext cx="86518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olvendo o problema da adaptação do contâiner pai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	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ar um espaçador (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pac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 com clea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91B3F-185D-42C4-B69F-20FF407E6CF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0680" y="2700360"/>
            <a:ext cx="3919680" cy="414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91120" y="2519280"/>
            <a:ext cx="48085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1619280"/>
            <a:ext cx="864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Tipos de posicionamento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0360" y="1600200"/>
            <a:ext cx="85057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Estátic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tatic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Relativ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tiv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Absolut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bsolut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Fix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ixed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C7925-10AC-4CB1-A0F6-5DF9405A03D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é err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itura obrigatória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estátic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static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drão, como os elementos são colocados po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adr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CD9D2-93C2-4675-8694-EAD9D1B674C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60360" y="2879640"/>
            <a:ext cx="684072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relativ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relativ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ç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ao posicionamento estátic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97121-532E-4617-A069-E26C5E61E6B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19640" y="3959280"/>
            <a:ext cx="4680000" cy="270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8360" y="4078440"/>
            <a:ext cx="358164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absolut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absolut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ao canto superior esquerdo ou canto superior direito do elemento pai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0707F-B62C-4492-8E4E-4C1DA6F0C06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81000"/>
            <a:ext cx="4319640" cy="1898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16000" y="2160720"/>
            <a:ext cx="572436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fix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fixed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à janela do navegado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D20B9-99FF-4D4F-AB5B-8BCF4BA0B84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E2672-15CE-434A-A278-948B02CAC9A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óximas aulas de CS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214720"/>
            <a:ext cx="855360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CSS Posicionamento: layouts;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Menus, Botões e Forms.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E4DDC-A54C-4C4F-BC53-24F139BD5DA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ropriedade position do CS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tableless.com.br/propriedade-position-do-cs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Flutu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http://www.pt-br.html.net/tutorials/css/lesson13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http://www.pt-br.html.net/tutorials/css/lesson14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SS – Guia de Bols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6DC2D-6FE6-4D18-8A92-F286C1BD0F6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CC814-F7BE-42EA-864E-38E65729010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909CD-0B8F-4775-9037-5831A71EB7B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tipo de posicionamento de um element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largura de um elemento, obrigatório nos elementos com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06-16T19:09:20Z</dcterms:modified>
  <cp:revision>852</cp:revision>
  <dc:subject/>
  <dc:title>Aula 01 - Curso Técnico</dc:title>
</cp:coreProperties>
</file>