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0" y="0"/>
            <a:ext cx="6858000" cy="98712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8712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871200"/>
              <a:gd name="textAreaBottom" fmla="*/ 9870840 h 9871200"/>
            </a:gdLst>
            <a:ahLst/>
            <a:rect l="textAreaLeft" t="textAreaTop" r="textAreaRight" b="textAreaBottom"/>
            <a:pathLst>
              <a:path w="21600" h="31090">
                <a:moveTo>
                  <a:pt x="5" y="0"/>
                </a:moveTo>
                <a:arcTo wR="5" hR="5" stAng="16200000" swAng="-5400000"/>
                <a:lnTo>
                  <a:pt x="0" y="31085"/>
                </a:lnTo>
                <a:arcTo wR="5" hR="5" stAng="10800000" swAng="-5400000"/>
                <a:lnTo>
                  <a:pt x="21595" y="3109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3886200" y="-360"/>
            <a:ext cx="2968560" cy="49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ldImg"/>
          </p:nvPr>
        </p:nvSpPr>
        <p:spPr>
          <a:xfrm>
            <a:off x="960480" y="739440"/>
            <a:ext cx="4935600" cy="3700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move the slide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body"/>
          </p:nvPr>
        </p:nvSpPr>
        <p:spPr>
          <a:xfrm>
            <a:off x="914040" y="4689360"/>
            <a:ext cx="5025960" cy="444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5"/>
          </p:nvPr>
        </p:nvSpPr>
        <p:spPr>
          <a:xfrm>
            <a:off x="3886200" y="9379080"/>
            <a:ext cx="2968560" cy="490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67DDD1-FF9D-4279-95CB-38A80F7C0F99}" type="slidenum">
              <a:rPr b="0" lang="pt-BR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634215-B49E-41DA-82F4-EF9AD7BAE23E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960480" y="739800"/>
            <a:ext cx="4938840" cy="37036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886200" y="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886200" y="9379080"/>
            <a:ext cx="2971800" cy="49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A8D659-B9E3-4418-A71D-DCE51A1BE24F}" type="slidenum">
              <a:rPr b="0" lang="pt-BR" sz="1200" spc="-1" strike="noStrike">
                <a:solidFill>
                  <a:srgbClr val="80808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9E4ACC-6E13-431A-8807-4F37CAD4BF1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3AEC08F-0E99-4377-B5B4-29ABCD1A9E2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314B5E0-7433-4E58-A535-2E058B59BF3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AEEC575-6C3E-4DEE-926C-66E7D5B5D37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5F17349-24E1-4DDE-AE2C-F2FFD78C199C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A71EFA5-448F-47A9-87E4-491F8601213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1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09DD7A-24C7-4C7F-A771-1C50B7B26C2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CE426-ACB4-4C6C-9DA0-14B495A2C2B8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CF96D-FAF6-468C-8B9E-D1159794E4E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84BC5AB-7834-4355-A8AA-6B4A3ACA57C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972AAE-8793-4D10-8DE6-9E848EC1821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D351785-4D53-4370-A41B-C7B38D3592A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3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EECDAD-8DC4-4E9A-9851-CBE9B61A772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0F95CE-179A-41B2-9912-D42E7065F77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4CBA5E-D682-4609-B2CC-D342F240DB45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583513-2E58-4A39-A3CD-9EF3A13A9F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7F0B9D9-264A-49B6-8232-7D3DACF7637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Imagem original em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  <a:ea typeface="WenQuanYi Micro Hei"/>
              </a:rPr>
              <a:t>http://www.flickr.com/photos/mlostracco/435561154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38B3B1E-ED7E-422B-9DFE-73B85F3B0944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D7A6467-3256-43D4-B6FF-180D4AF5442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5625B40-CB33-4B77-808F-9E6C053A8D62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6374E4-B4EE-4AE1-938D-F2BC7C007386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FFE52DB-942D-40B1-8BCA-DF4A18159CC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2EC06CA-BE5D-429A-B847-9846B6816817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77" name="PlaceHolder 2"/>
          <p:cNvSpPr>
            <a:spLocks noGrp="1"/>
          </p:cNvSpPr>
          <p:nvPr>
            <p:ph type="body"/>
          </p:nvPr>
        </p:nvSpPr>
        <p:spPr>
          <a:xfrm>
            <a:off x="914400" y="-1496880"/>
            <a:ext cx="5029200" cy="1690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5-LayoutBaseadoEmTabelas.html - Layout baseado em tabelas, o que vimos até agora, </a:t>
            </a:r>
            <a:r>
              <a:rPr b="1" lang="en-US" sz="2700" spc="-1" strike="noStrike">
                <a:solidFill>
                  <a:srgbClr val="ff0000"/>
                </a:solidFill>
                <a:latin typeface="Arial"/>
                <a:ea typeface="WenQuanYi Micro Hei"/>
              </a:rPr>
              <a:t>não é a solução idea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06-LayoutBaseadoEmParagrafos.html - Layout baseado em parágrafos (&lt;p&gt;) e quebras de linha (&lt;br&gt;)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seados em floa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listas de definição (&lt;dl&gt;, &lt;dd&gt;, &lt;dt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Layout baseado em camadas (&lt;div&gt;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ódigo HTML bastante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limpo e acessível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Funciona bem mesmo 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sem CSS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9900ff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Fácil leitura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pelo usuário; 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Prevê dispositivos com</a:t>
            </a:r>
            <a:r>
              <a:rPr b="0" lang="en-US" sz="2700" spc="-1" strike="noStrike">
                <a:solidFill>
                  <a:srgbClr val="9900ff"/>
                </a:solidFill>
                <a:latin typeface="Arial"/>
                <a:ea typeface="WenQuanYi Micro Hei"/>
              </a:rPr>
              <a:t> baixa resoluçã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 de largura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CSS Aplicado muda pouco em relação à versão anterior!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Não é uma boa abordagem bom para formatações complexas;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WenQuanYi Micro Hei"/>
              </a:rPr>
              <a:t>Sugere-se a colocação de separador entre os itens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fieldset p {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margin:3px 0 2px 0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order:1px solid #aaa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padding:5px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3" marL="1255680" indent="-228600">
              <a:lnSpc>
                <a:spcPct val="95000"/>
              </a:lnSpc>
              <a:buClr>
                <a:srgbClr val="000000"/>
              </a:buClr>
              <a:buFont typeface="Wingdings" charset="2"/>
              <a:buChar char="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background:#ccc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SzPct val="80000"/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  <a:ea typeface="WenQuanYi Micro Hei"/>
              </a:rPr>
              <a:t>}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398520" indent="0">
              <a:lnSpc>
                <a:spcPct val="95000"/>
              </a:lnSpc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1012"/>
              </a:spcBef>
              <a:buNone/>
              <a:tabLst>
                <a:tab algn="l" pos="0"/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C88E18-84E6-44B1-9A13-C68BE183229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Desafio!: Renderização padrão em navegadores diferentes é sempre diferente. Botões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  <a:ea typeface="WenQuanYi Micro Hei"/>
              </a:rPr>
              <a:t>NUNCA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vão ficar exatamente iguai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WenQuanYi Micro Hei"/>
              </a:rPr>
              <a:t>Fonte: Página 173 do Beggining C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272B7B-3EB9-4F7B-AD58-EC21C5FE4353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07B12A-62FA-49DF-B62A-3A0E1F7E733B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70774D6-567F-4309-A477-4971BD2144A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  <a:ea typeface="WenQuanYi Micro Hei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635C45-B9B7-47ED-AE2B-FBD25BB6772D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EF0511-1E81-4969-BA77-A79B9AD0672F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535CB0D-7109-4EEE-A265-2ACE35017A99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4AD882-7F10-46FF-88B5-E05DDF72462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D6F1BA-859A-40B1-B6C7-2A0D4920F400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3886200" y="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27/10/09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3886200" y="9379080"/>
            <a:ext cx="2970360" cy="49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C5BF53-7B79-4FD2-9AD3-4F4E80B40EEA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96048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914400" y="4689000"/>
            <a:ext cx="5029200" cy="453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D37F75-2782-4186-BEB9-54CF22E14D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B35E27B-18BB-41B9-9D1E-C4B24028E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E0ABD3-AC51-43E3-BEA7-007E3431C4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01968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04440" y="159984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3492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01968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04440" y="4766760"/>
            <a:ext cx="284220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613D5A-1115-4C1B-814F-0430E69F6C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E37268-6626-486E-AFD4-15538087C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5224F6-12CB-4BFB-ABD7-11646BBCDF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9827DD-6B40-425C-A863-9E67714F8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E65CA0E-8BEF-402C-BCFF-97EF787B57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7120" y="174240"/>
            <a:ext cx="8802360" cy="608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0F3ED5B-6009-4917-A08F-996231FC6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4C11EB-FD0B-40E7-A877-51B396A40B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58320" y="476676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05C379-CB85-41CF-ABBF-A6ED2CF43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49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58320" y="1599840"/>
            <a:ext cx="430776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34920" y="4766760"/>
            <a:ext cx="8827920" cy="2891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8AC6F7C-B4AB-43E6-815F-5FEAA6C27F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7120" y="174240"/>
            <a:ext cx="8802360" cy="131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000" spc="-1" strike="noStrike">
                <a:solidFill>
                  <a:srgbClr val="4086b8"/>
                </a:solidFill>
                <a:latin typeface="Verdana"/>
              </a:rPr>
              <a:t>Click to edit the title text format</a:t>
            </a:r>
            <a:endParaRPr b="0" lang="en-US" sz="4000" spc="-1" strike="noStrike">
              <a:solidFill>
                <a:srgbClr val="4086b8"/>
              </a:solidFill>
              <a:latin typeface="Verdan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920" y="1599840"/>
            <a:ext cx="8827920" cy="606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80808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808080"/>
              </a:solidFill>
              <a:latin typeface="Verdan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3059280" y="6381720"/>
            <a:ext cx="2892240" cy="91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Introdução ao Desenvolvimento Para Web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79280" cy="6858000"/>
          </a:xfrm>
          <a:prstGeom prst="rect">
            <a:avLst/>
          </a:prstGeom>
          <a:ln w="0">
            <a:noFill/>
          </a:ln>
        </p:spPr>
      </p:pic>
      <p:pic>
        <p:nvPicPr>
          <p:cNvPr id="4" name="" descr=""/>
          <p:cNvPicPr/>
          <p:nvPr/>
        </p:nvPicPr>
        <p:blipFill>
          <a:blip r:embed="rId3"/>
          <a:stretch/>
        </p:blipFill>
        <p:spPr>
          <a:xfrm>
            <a:off x="8964720" y="0"/>
            <a:ext cx="179280" cy="685800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sldNum" idx="2"/>
          </p:nvPr>
        </p:nvSpPr>
        <p:spPr>
          <a:xfrm>
            <a:off x="7092720" y="6669000"/>
            <a:ext cx="213012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A090AB-8A58-4DB4-93E4-0A4AA64CFB16}" type="slidenum">
              <a:rPr b="0" lang="pt-BR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>
          <a:xfrm>
            <a:off x="108000" y="6669000"/>
            <a:ext cx="2130480" cy="47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pt-BR" sz="18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ffffff"/>
                </a:solidFill>
                <a:latin typeface="Arial"/>
              </a:rPr>
              <a:t>27/10/09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html/elements-head" TargetMode="External"/><Relationship Id="rId2" Type="http://schemas.openxmlformats.org/officeDocument/2006/relationships/hyperlink" Target="http://reference.sitepoint.com/html/style" TargetMode="External"/><Relationship Id="rId3" Type="http://schemas.openxmlformats.org/officeDocument/2006/relationships/hyperlink" Target="http://reference.sitepoint.com/html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hyperlink" Target="http://reference.sitepoint.com/html/script" TargetMode="External"/><Relationship Id="rId6" Type="http://schemas.openxmlformats.org/officeDocument/2006/relationships/hyperlink" Target="http://www.referenciando.com/referencias/html-xhtml/html-tags/script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float" TargetMode="External"/><Relationship Id="rId3" Type="http://schemas.openxmlformats.org/officeDocument/2006/relationships/hyperlink" Target="http://reference.sitepoint.com/css/clear" TargetMode="External"/><Relationship Id="rId4" Type="http://schemas.openxmlformats.org/officeDocument/2006/relationships/hyperlink" Target="http://reference.sitepoint.com/css/position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://reference.sitepoint.com/css/boxproperties" TargetMode="External"/><Relationship Id="rId2" Type="http://schemas.openxmlformats.org/officeDocument/2006/relationships/hyperlink" Target="http://reference.sitepoint.com/css/width" TargetMode="External"/><Relationship Id="rId3" Type="http://schemas.openxmlformats.org/officeDocument/2006/relationships/hyperlink" Target="http://reference.sitepoint.com/css/left" TargetMode="External"/><Relationship Id="rId4" Type="http://schemas.openxmlformats.org/officeDocument/2006/relationships/hyperlink" Target="http://reference.sitepoint.com/css/right" TargetMode="External"/><Relationship Id="rId5" Type="http://schemas.openxmlformats.org/officeDocument/2006/relationships/hyperlink" Target="http://reference.sitepoint.com/css/top" TargetMode="External"/><Relationship Id="rId6" Type="http://schemas.openxmlformats.org/officeDocument/2006/relationships/hyperlink" Target="http://reference.sitepoint.com/css/bottom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http://www.brunocampagnolo.com/2009li/2009/11/03/layout-de-elementos-em-css/" TargetMode="External"/><Relationship Id="rId2" Type="http://schemas.openxmlformats.org/officeDocument/2006/relationships/hyperlink" Target="http://www.brunocampagnolo.com/2009li/2009/10/27/posicionamento-de-elementos-em-css/" TargetMode="External"/><Relationship Id="rId3" Type="http://schemas.openxmlformats.org/officeDocument/2006/relationships/hyperlink" Target="http://www.brunocampagnolo.com/2009li/2009/10/27/posicionamento-de-elementos-em-css/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hyperlink" Target="http://www.pucpr.br/" TargetMode="External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tabcorp.com.au/" TargetMode="External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hyperlink" Target="http://www.htmldog.com/articles/elasticdesign/demo/" TargetMode="External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hyperlink" Target="http://www.csseasy.com/" TargetMode="External"/><Relationship Id="rId3" Type="http://schemas.openxmlformats.org/officeDocument/2006/relationships/hyperlink" Target="http://layouts.ironmyers.com/" TargetMode="External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plasmadesign.com.br/stupidtables/index.html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maujor.com/tutorial/layout-css-passo-a-passo.php" TargetMode="External"/><Relationship Id="rId2" Type="http://schemas.openxmlformats.org/officeDocument/2006/relationships/hyperlink" Target="http://www.tableless.com.br/propriedade-position-do-css" TargetMode="External"/><Relationship Id="rId3" Type="http://schemas.openxmlformats.org/officeDocument/2006/relationships/hyperlink" Target="http://www.pt-br.html.net/tutorials/css/lesson13.asp" TargetMode="External"/><Relationship Id="rId4" Type="http://schemas.openxmlformats.org/officeDocument/2006/relationships/hyperlink" Target="http://www.pt-br.html.net/tutorials/css/lesson14.as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submarino.com.br/books_productdetails.asp?Query=ProductPage&amp;ProdTypeId=1&amp;ProdId=21323898&amp;ST=SR" TargetMode="External"/><Relationship Id="rId2" Type="http://schemas.openxmlformats.org/officeDocument/2006/relationships/hyperlink" Target="http://www.lukew.com/ff/entry.asp?680" TargetMode="External"/><Relationship Id="rId3" Type="http://schemas.openxmlformats.org/officeDocument/2006/relationships/hyperlink" Target="http://www.lukew.com/ff" TargetMode="External"/><Relationship Id="rId4" Type="http://schemas.openxmlformats.org/officeDocument/2006/relationships/hyperlink" Target="http://www.maujor.com/tutorial/formac-a.php" TargetMode="External"/><Relationship Id="rId5" Type="http://schemas.openxmlformats.org/officeDocument/2006/relationships/hyperlink" Target="http://www.maujor.com/tutorial/cssforms.php" TargetMode="External"/><Relationship Id="rId6" Type="http://schemas.openxmlformats.org/officeDocument/2006/relationships/hyperlink" Target="http://www.maujor.com/tutorial/formContato.php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acordapraweb.com/formularios-totalmente-semanticos-com-html-e-css/" TargetMode="External"/><Relationship Id="rId2" Type="http://schemas.openxmlformats.org/officeDocument/2006/relationships/hyperlink" Target="http://woork.blogspot.com/2008/06/clean-and-pure-css-form-design.html" TargetMode="External"/><Relationship Id="rId3" Type="http://schemas.openxmlformats.org/officeDocument/2006/relationships/hyperlink" Target="http://www.alistapart.com/articles/sensibleforms" TargetMode="External"/><Relationship Id="rId4" Type="http://schemas.openxmlformats.org/officeDocument/2006/relationships/hyperlink" Target="http://www.lukew.com/ff/entry.asp?504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ellstyled.com/css-nopreload-rollovers.html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altabooks.tempsite.ws/capitulos_amostra/00_cssbolso.pdf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referenciando.com/referencias/html-xhtml/html-tags" TargetMode="External"/><Relationship Id="rId2" Type="http://schemas.openxmlformats.org/officeDocument/2006/relationships/hyperlink" Target="http://www.referenciando.com/referencias/html-xhtml/html-tags/style" TargetMode="External"/><Relationship Id="rId3" Type="http://schemas.openxmlformats.org/officeDocument/2006/relationships/hyperlink" Target="http://www.referenciando.com/referencias/html-xhtml/html-tags/link" TargetMode="External"/><Relationship Id="rId4" Type="http://schemas.openxmlformats.org/officeDocument/2006/relationships/hyperlink" Target="http://www.referenciando.com/referencias/html-xhtml/html-tags/script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"/>
          <p:cNvSpPr/>
          <p:nvPr/>
        </p:nvSpPr>
        <p:spPr>
          <a:xfrm>
            <a:off x="468360" y="38160"/>
            <a:ext cx="7910640" cy="38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boratório de Informática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CSS</a:t>
            </a:r>
            <a:br>
              <a:rPr sz="4400"/>
            </a:br>
            <a:r>
              <a:rPr b="0" lang="pt-BR" sz="4400" spc="-1" strike="noStrike">
                <a:solidFill>
                  <a:srgbClr val="4086b8"/>
                </a:solidFill>
                <a:latin typeface="Verdana"/>
              </a:rPr>
              <a:t>Layout em CSS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395280" y="5029200"/>
            <a:ext cx="8101080" cy="182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2º Semestre 2009 &gt; PUCPR &gt; BSI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395280" y="333360"/>
            <a:ext cx="640080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Bruno C. de Paul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428760" y="3214800"/>
            <a:ext cx="7910280" cy="22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3600"/>
            </a:br>
            <a:br>
              <a:rPr sz="3600"/>
            </a:br>
            <a:br>
              <a:rPr sz="3600"/>
            </a:b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EF27D3-C966-4140-9FB5-7F41F27DF1F0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Ingl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 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script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 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4920" y="1600200"/>
            <a:ext cx="8831160" cy="549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etermina o posicionamento de um elemento em relação ao flux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cle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controla o comportamento de um elemento em relação ao estado de float dos anteriore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position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tipo de posicionamento de um element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/>
          <p:nvPr/>
        </p:nvSpPr>
        <p:spPr>
          <a:xfrm>
            <a:off x="87480" y="233280"/>
            <a:ext cx="8805600" cy="119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Propriedades CSS referenciadas na aula (em Inglês – </a:t>
            </a:r>
            <a:r>
              <a:rPr b="0" lang="pt-BR" sz="36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Sitepoint</a:t>
            </a: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0" y="1600200"/>
            <a:ext cx="8831160" cy="499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largura de um elemento, obrigatório nos elementos com float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lef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righ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esquerdo ou direito do elemento sendo posicion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41280"/>
                <a:tab algn="l" pos="789120"/>
                <a:tab algn="l" pos="1238400"/>
                <a:tab algn="l" pos="1687680"/>
                <a:tab algn="l" pos="2136600"/>
                <a:tab algn="l" pos="2585880"/>
                <a:tab algn="l" pos="3035160"/>
                <a:tab algn="l" pos="3484440"/>
                <a:tab algn="l" pos="3933720"/>
                <a:tab algn="l" pos="4383000"/>
                <a:tab algn="l" pos="4832280"/>
                <a:tab algn="l" pos="5281560"/>
                <a:tab algn="l" pos="5730840"/>
                <a:tab algn="l" pos="6180120"/>
                <a:tab algn="l" pos="6629400"/>
                <a:tab algn="l" pos="7078680"/>
                <a:tab algn="l" pos="7527960"/>
                <a:tab algn="l" pos="7977240"/>
                <a:tab algn="l" pos="8426520"/>
                <a:tab algn="l" pos="8875800"/>
                <a:tab algn="l" pos="93250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5"/>
              </a:rPr>
              <a:t>top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/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6"/>
              </a:rPr>
              <a:t>bottom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: distância em relação ao limite superior ou inferior do elemento sendo posic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A736A4C-890A-4A4D-8D80-E17DEEB1971F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s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4920" y="1600200"/>
            <a:ext cx="88311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esta aul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www.brunocampagnolo.com/2009li/2009/11/03/layout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3333cc"/>
                </a:solidFill>
                <a:latin typeface="Verdana"/>
                <a:ea typeface="Arial"/>
              </a:rPr>
              <a:t>Exemplos da aula passad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brunocampagnolo.com/2009li/2009/10/27/posicionamento-de-elementos-em-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_x000b_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Alguns tipo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íquido ou fluid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Elástico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5400" spc="-1" strike="noStrike">
                <a:solidFill>
                  <a:srgbClr val="808080"/>
                </a:solidFill>
                <a:latin typeface="Verdana"/>
              </a:rPr>
              <a:t>Largura fixa variável;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terminado 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ixel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dimensiona a janela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ermanece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trole exat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ão prevê resolução do usuári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rgura fix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4200" y="6143760"/>
            <a:ext cx="8929800" cy="178740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pucpr.b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2"/>
          <a:stretch/>
        </p:blipFill>
        <p:spPr>
          <a:xfrm>
            <a:off x="1285920" y="1454040"/>
            <a:ext cx="6770520" cy="45338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íquido ou fl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 co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manho das imagen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Deve te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rgura máxim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pois o texto não é redimensionado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líquid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14200" y="6000840"/>
            <a:ext cx="8929800" cy="193032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http://www.tabcorp.com.au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1500120" y="1571760"/>
            <a:ext cx="5892840" cy="4511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xpande ou contrai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nforme resolução ou preferências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exto é redimensionad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ambém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ode te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argura máxima e mínima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Anteriormente trabalhamos com posicionamento CSS através do uso das propriedade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loa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clear, position e width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objetivo de hoje é realizar algun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studos de caso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relacionados a tipos de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que podem ser implementados através destas propriedade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 de site com layout elástic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14200" y="5643720"/>
            <a:ext cx="8929800" cy="2287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http://www.htmldog.com/articles/elasticdesign/demo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2"/>
          <a:stretch/>
        </p:blipFill>
        <p:spPr>
          <a:xfrm>
            <a:off x="2928960" y="857160"/>
            <a:ext cx="4468680" cy="4488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rgura fixa variável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muda automaticamente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ara se adaptar à largura do navegador do usuári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Mudança n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número de colu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, inclusive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Geralmente construído vi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JavaScrip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Pouco usual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2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-285840" y="1571760"/>
            <a:ext cx="7786800" cy="21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"&gt;&lt;/div&gt; 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4200" y="3500280"/>
            <a:ext cx="7786800" cy="333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conteudo { float:left; width:X%;}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lateral { float: right; width: Y%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#rodape {clear: both;}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 + Y &lt; 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28584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6107040" y="1357200"/>
            <a:ext cx="3036960" cy="3071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Exemplo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líquido de 3 coluna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-285840" y="1571760"/>
            <a:ext cx="7786800" cy="25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HTML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abecalh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a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lateral_b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conteudo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3" marL="13129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855720"/>
                <a:tab algn="l" pos="1303200"/>
                <a:tab algn="l" pos="1752480"/>
                <a:tab algn="l" pos="2201760"/>
                <a:tab algn="l" pos="2651040"/>
                <a:tab algn="l" pos="3100320"/>
                <a:tab algn="l" pos="3549600"/>
                <a:tab algn="l" pos="3998880"/>
                <a:tab algn="l" pos="4448160"/>
                <a:tab algn="l" pos="4897440"/>
                <a:tab algn="l" pos="5346720"/>
                <a:tab algn="l" pos="5796000"/>
                <a:tab algn="l" pos="6245280"/>
                <a:tab algn="l" pos="6694560"/>
                <a:tab algn="l" pos="7143840"/>
                <a:tab algn="l" pos="7593120"/>
                <a:tab algn="l" pos="8042400"/>
                <a:tab algn="l" pos="8491680"/>
                <a:tab algn="l" pos="8940960"/>
                <a:tab algn="l" pos="9390240"/>
                <a:tab algn="l" pos="983916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&lt;div id="rodape"&gt;&lt;/div&gt;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214200" y="4071960"/>
            <a:ext cx="8429760" cy="2756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CSS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Básico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MS Gothic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abecalho {} 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a { float: left; width: X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lateral_b {float:right;width: Y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conteudo {margin-left:X+Z%; margin-right: Y+Z%;}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MS Gothic"/>
              </a:rPr>
              <a:t>#rodape { clear:both;}                         </a:t>
            </a:r>
            <a:r>
              <a:rPr b="0" lang="en-US" sz="3200" spc="-1" strike="noStrike">
                <a:solidFill>
                  <a:srgbClr val="ff00ff"/>
                </a:solidFill>
                <a:latin typeface="Verdana"/>
                <a:ea typeface="MS Gothic"/>
              </a:rPr>
              <a:t>X+Y+Z&lt;100%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1"/>
          <a:stretch/>
        </p:blipFill>
        <p:spPr>
          <a:xfrm>
            <a:off x="5565600" y="1285920"/>
            <a:ext cx="3578400" cy="4037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142920" y="857160"/>
            <a:ext cx="7558200" cy="3786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ZENAS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de variações são possíveis apenas alterando as propriedades: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width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loat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clear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rgin;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in-height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42920" y="857160"/>
            <a:ext cx="3929040" cy="428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Problem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: muitas vezes é obrigatório o uso de hacks para compatibilizar com navegadores antigos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>
            <a:off x="4143240" y="428760"/>
            <a:ext cx="4762800" cy="47624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Minha</a:t>
            </a: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 Recomendaçã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1) Deixe o problema para seu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design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resolver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2) Aproveite ou modifique alg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layout pront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3) Use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framework CS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4) Crie seu layout em u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gerador de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s pronto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6226200" y="0"/>
            <a:ext cx="2917800" cy="2643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http://www.csseasy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http://layouts.ironmyers.com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code-sucks.com/css%20layout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glish.com/cs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intensivstation.ch/en/templates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" descr=""/>
          <p:cNvPicPr/>
          <p:nvPr/>
        </p:nvPicPr>
        <p:blipFill>
          <a:blip r:embed="rId4"/>
          <a:stretch/>
        </p:blipFill>
        <p:spPr>
          <a:xfrm>
            <a:off x="6643800" y="5572080"/>
            <a:ext cx="2284200" cy="1285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ramework CS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uidado! Frameworks CSS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aumentam a distância do desenvolvedor 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em relação ao código CS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Não são muito flexíveis e podem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sujar o códig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Bons par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evitar hack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www.blueprintcss.org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960.g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veloper.yahoo.com/yui/grids/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1800" spc="-1" strike="noStrike">
                <a:solidFill>
                  <a:srgbClr val="808080"/>
                </a:solidFill>
                <a:latin typeface="Verdana"/>
              </a:rPr>
              <a:t>http://delicious.com/bcp/css+framework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7" name="" descr=""/>
          <p:cNvPicPr/>
          <p:nvPr/>
        </p:nvPicPr>
        <p:blipFill>
          <a:blip r:embed="rId1"/>
          <a:stretch/>
        </p:blipFill>
        <p:spPr>
          <a:xfrm>
            <a:off x="7072200" y="0"/>
            <a:ext cx="1905120" cy="1905120"/>
          </a:xfrm>
          <a:prstGeom prst="rect">
            <a:avLst/>
          </a:prstGeom>
          <a:ln w="0">
            <a:noFill/>
          </a:ln>
        </p:spPr>
      </p:pic>
      <p:pic>
        <p:nvPicPr>
          <p:cNvPr id="138" name="" descr=""/>
          <p:cNvPicPr/>
          <p:nvPr/>
        </p:nvPicPr>
        <p:blipFill>
          <a:blip r:embed="rId2"/>
          <a:stretch/>
        </p:blipFill>
        <p:spPr>
          <a:xfrm>
            <a:off x="5357880" y="214200"/>
            <a:ext cx="1785960" cy="119088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3"/>
          <a:stretch/>
        </p:blipFill>
        <p:spPr>
          <a:xfrm>
            <a:off x="7286760" y="4429080"/>
            <a:ext cx="1562040" cy="10479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Geradores de layou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Sugestões de link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4200" y="1357200"/>
            <a:ext cx="8929800" cy="65739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developer.yahoo.com/yui/grids/builder/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http://www.positioniseverything.net/articles/pie-maker/pagemaker_form.php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700" spc="-1" strike="noStrike" u="sng">
                <a:solidFill>
                  <a:srgbClr val="7799cc"/>
                </a:solidFill>
                <a:uFillTx/>
                <a:latin typeface="Arial"/>
                <a:ea typeface="MS Gothic"/>
              </a:rPr>
              <a:t>http://builder.yaml.de/</a:t>
            </a:r>
            <a:endParaRPr b="0" lang="en-US" sz="3700" spc="-1" strike="noStrike">
              <a:solidFill>
                <a:srgbClr val="ffffff"/>
              </a:solidFill>
              <a:latin typeface="Arial"/>
            </a:endParaRPr>
          </a:p>
          <a:p>
            <a:pPr lvl="2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5429160" y="4998960"/>
            <a:ext cx="3714840" cy="18590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00080" y="4809960"/>
            <a:ext cx="4000680" cy="2048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0" y="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esum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209520" y="993600"/>
            <a:ext cx="8929800" cy="557244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omeçaremos a entender que usar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</a:rPr>
              <a:t>tabelas para layout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 é errad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Leitura obrigatória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6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Porque utilizar tabelas para layout é estupidez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252360" y="3600360"/>
            <a:ext cx="4427640" cy="3175200"/>
          </a:xfrm>
          <a:prstGeom prst="rect">
            <a:avLst/>
          </a:prstGeom>
          <a:ln w="0">
            <a:noFill/>
          </a:ln>
        </p:spPr>
      </p:pic>
      <p:pic>
        <p:nvPicPr>
          <p:cNvPr id="61" name="" descr=""/>
          <p:cNvPicPr/>
          <p:nvPr/>
        </p:nvPicPr>
        <p:blipFill>
          <a:blip r:embed="rId3"/>
          <a:stretch/>
        </p:blipFill>
        <p:spPr>
          <a:xfrm>
            <a:off x="5072040" y="3600360"/>
            <a:ext cx="3389400" cy="3257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form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formulário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Tabelas –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evita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Parágrafos – o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mais compatível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Listas de definiçã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iv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Desafio do layout de forms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0" y="1133640"/>
            <a:ext cx="8072280" cy="2322360"/>
          </a:xfrm>
          <a:prstGeom prst="rect">
            <a:avLst/>
          </a:prstGeom>
          <a:ln w="0">
            <a:noFill/>
          </a:ln>
        </p:spPr>
      </p:pic>
      <p:pic>
        <p:nvPicPr>
          <p:cNvPr id="148" name="" descr=""/>
          <p:cNvPicPr/>
          <p:nvPr/>
        </p:nvPicPr>
        <p:blipFill>
          <a:blip r:embed="rId2"/>
          <a:stretch/>
        </p:blipFill>
        <p:spPr>
          <a:xfrm>
            <a:off x="1290600" y="3409920"/>
            <a:ext cx="6851520" cy="3448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"/>
          <p:cNvSpPr/>
          <p:nvPr/>
        </p:nvSpPr>
        <p:spPr>
          <a:xfrm>
            <a:off x="214200" y="0"/>
            <a:ext cx="75582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Formulário exemplo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1"/>
          <a:stretch/>
        </p:blipFill>
        <p:spPr>
          <a:xfrm>
            <a:off x="2357280" y="1415880"/>
            <a:ext cx="4950000" cy="5442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Layout de elementos específicos – Layout de menus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214200" y="2071800"/>
            <a:ext cx="8929800" cy="5859360"/>
          </a:xfrm>
          <a:prstGeom prst="rect">
            <a:avLst/>
          </a:prstGeom>
          <a:noFill/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Técnicas de layout de menus: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Dezenas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!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Ver exemplos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Geralmente se usa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imagens de rollover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1240" indent="-2840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Quando o mouse passa sobre um elemento, </a:t>
            </a:r>
            <a:r>
              <a:rPr b="0" lang="pt-BR" sz="3200" spc="-1" strike="noStrike">
                <a:solidFill>
                  <a:srgbClr val="ff00ff"/>
                </a:solidFill>
                <a:latin typeface="Verdana"/>
                <a:ea typeface="MS Gothic"/>
              </a:rPr>
              <a:t>a imagem é realinhada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"/>
          <p:cNvSpPr/>
          <p:nvPr/>
        </p:nvSpPr>
        <p:spPr>
          <a:xfrm>
            <a:off x="214200" y="0"/>
            <a:ext cx="8429760" cy="171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Rollover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" descr=""/>
          <p:cNvPicPr/>
          <p:nvPr/>
        </p:nvPicPr>
        <p:blipFill>
          <a:blip r:embed="rId1"/>
          <a:stretch/>
        </p:blipFill>
        <p:spPr>
          <a:xfrm>
            <a:off x="1071720" y="1785960"/>
            <a:ext cx="5081400" cy="5094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2"/>
          <a:stretch/>
        </p:blipFill>
        <p:spPr>
          <a:xfrm>
            <a:off x="3429000" y="4357800"/>
            <a:ext cx="2668680" cy="1665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E114A3-7251-475B-88B0-21F34839663B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20" y="1143000"/>
            <a:ext cx="8831160" cy="889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Layout CSS Passo a passo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1"/>
              </a:rPr>
              <a:t>http://maujor.com/tutorial/layout-css-passo-a-passo.ph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ropriedade position do CS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1082520" indent="-33948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2"/>
              </a:rPr>
              <a:t>http://www.tableless.com.br/propriedade-position-do-cs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Flutu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3"/>
              </a:rPr>
              <a:t>http://www.pt-br.html.net/tutorials/css/lesson13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>
                <a:solidFill>
                  <a:srgbClr val="808080"/>
                </a:solidFill>
                <a:latin typeface="Verdana"/>
                <a:ea typeface="Arial"/>
              </a:rPr>
              <a:t>Posicionando elementos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800" spc="-1" strike="noStrike" u="sng">
                <a:solidFill>
                  <a:srgbClr val="ccccff"/>
                </a:solidFill>
                <a:uFillTx/>
                <a:latin typeface="Verdana"/>
                <a:ea typeface="Arial"/>
                <a:hlinkClick r:id="rId4"/>
              </a:rPr>
              <a:t>http://www.pt-br.html.net/tutorials/css/lesson14.asp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ACFD23A-0BB1-45EB-8A04-3C406580C0C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Desenvolvendo CSS na Web - SIMON COLLISON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Livro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 Web Form Design: Best Practices 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Site:</a:t>
            </a: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lukew.com/ff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onstruindo formulários acessívei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maujor.com/tutorial/formac-a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Geral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5"/>
              </a:rPr>
              <a:t>http://www.maujor.com/tutorial/cssforms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Formulários de Contat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6"/>
              </a:rPr>
              <a:t>http://www.maujor.com/tutorial/formContato.php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1BAAAC-689C-4C88-8716-4AE50BF4B8AD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form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ww.acordapraweb.com/formularios-totalmente-semanticos-com-html-e-css/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Mais um exemplo de formulário semântic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2"/>
              </a:rPr>
              <a:t>http://woork.blogspot.com/2008/06/clean-and-pure-css-form-design.html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Checklist de usabilidade em forms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3"/>
              </a:rPr>
              <a:t>http://www.alistapart.com/articles/sensibleforms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Artigo sobre alinhamento de formulários de cadastro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285840">
              <a:lnSpc>
                <a:spcPct val="95000"/>
              </a:lnSpc>
              <a:buClr>
                <a:srgbClr val="000000"/>
              </a:buClr>
              <a:buFont typeface="Courier New"/>
              <a:buChar char="o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4"/>
              </a:rPr>
              <a:t>http://www.lukew.com/ff/entry.asp?504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2BBFA8-FF44-4C11-B2AA-FD17FB6E92EE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87480" y="260280"/>
            <a:ext cx="8805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600" spc="-1" strike="noStrike">
                <a:solidFill>
                  <a:srgbClr val="4086b8"/>
                </a:solidFill>
                <a:latin typeface="Verdana"/>
              </a:rPr>
              <a:t>Layout de menus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34920" y="1714680"/>
            <a:ext cx="8831160" cy="832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457200" indent="-34272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  <a:ea typeface="MS Gothic"/>
              </a:rPr>
              <a:t>Origem da técnica de rollover: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 u="sng">
                <a:solidFill>
                  <a:srgbClr val="ccccff"/>
                </a:solidFill>
                <a:uFillTx/>
                <a:latin typeface="Arial"/>
                <a:ea typeface="MS Gothic"/>
                <a:hlinkClick r:id="rId1"/>
              </a:rPr>
              <a:t>http://wellstyled.com/css-nopreload-rollovers.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lvl="2" marL="855720" indent="-343080">
              <a:lnSpc>
                <a:spcPct val="95000"/>
              </a:lnSpc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99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1280" indent="-339840">
              <a:lnSpc>
                <a:spcPct val="80000"/>
              </a:lnSpc>
              <a:spcBef>
                <a:spcPts val="700"/>
              </a:spcBef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"/>
          <p:cNvSpPr/>
          <p:nvPr/>
        </p:nvSpPr>
        <p:spPr>
          <a:xfrm>
            <a:off x="87480" y="176040"/>
            <a:ext cx="8805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4086b8"/>
                </a:solidFill>
                <a:latin typeface="Verdana"/>
              </a:rPr>
              <a:t>Material referente ao assunto da aula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43240" y="1600200"/>
            <a:ext cx="472284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</a:rPr>
              <a:t>CSS – Guia de Bolso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Editora AltaBooks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80808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2008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99"/>
              </a:spcBef>
              <a:buClr>
                <a:srgbClr val="3333cc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ea typeface="MS Gothic"/>
                <a:hlinkClick r:id="rId1"/>
              </a:rPr>
              <a:t>Download de um capítulo</a:t>
            </a:r>
            <a:r>
              <a:rPr b="0" lang="pt-BR" sz="3200" spc="-1" strike="noStrike">
                <a:solidFill>
                  <a:srgbClr val="808080"/>
                </a:solidFill>
                <a:latin typeface="Verdana"/>
                <a:ea typeface="MS Gothic"/>
              </a:rPr>
              <a:t>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E01DC5B-A1F5-4012-A860-806282B4891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2" name="" descr=""/>
          <p:cNvPicPr/>
          <p:nvPr/>
        </p:nvPicPr>
        <p:blipFill>
          <a:blip r:embed="rId2"/>
          <a:stretch/>
        </p:blipFill>
        <p:spPr>
          <a:xfrm>
            <a:off x="285840" y="1428840"/>
            <a:ext cx="3857400" cy="5213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7093080" y="6669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9D375C9-A565-439D-9AF7-D80419EA3714}" type="slidenum">
              <a:rPr b="0" lang="pt-BR" sz="800" spc="-1" strike="noStrike">
                <a:solidFill>
                  <a:srgbClr val="b840a1"/>
                </a:solidFill>
                <a:latin typeface="Verdana"/>
              </a:rPr>
              <a:t>&lt;number&gt;</a:t>
            </a:fld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108000" y="666900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800" spc="-1" strike="noStrike">
                <a:solidFill>
                  <a:srgbClr val="808080"/>
                </a:solidFill>
                <a:latin typeface="Verdana"/>
              </a:rPr>
              <a:t>27/10/09</a:t>
            </a:r>
            <a:endParaRPr b="0" lang="en-US" sz="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87480" y="260280"/>
            <a:ext cx="90565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Tags HTML referenciadas na aula (em </a:t>
            </a:r>
            <a:r>
              <a:rPr b="1" lang="pt-BR" sz="3200" spc="-1" strike="noStrike">
                <a:solidFill>
                  <a:srgbClr val="b840a1"/>
                </a:solidFill>
                <a:latin typeface="Verdana"/>
              </a:rPr>
              <a:t>Português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 –site </a:t>
            </a:r>
            <a:r>
              <a:rPr b="0" lang="pt-BR" sz="3200" spc="-1" strike="noStrike" u="sng">
                <a:solidFill>
                  <a:srgbClr val="ccccff"/>
                </a:solidFill>
                <a:uFillTx/>
                <a:latin typeface="Verdana"/>
                <a:hlinkClick r:id="rId1"/>
              </a:rPr>
              <a:t>Referenciando</a:t>
            </a:r>
            <a:r>
              <a:rPr b="0" lang="pt-BR" sz="3200" spc="-1" strike="noStrike">
                <a:solidFill>
                  <a:srgbClr val="4086b8"/>
                </a:solidFill>
                <a:latin typeface="Verdana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34920" y="1600200"/>
            <a:ext cx="910908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estilo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2"/>
              </a:rPr>
              <a:t>&lt;style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link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3"/>
              </a:rPr>
              <a:t>&lt;link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;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1199"/>
              </a:spcBef>
              <a:buClr>
                <a:srgbClr val="4086b8"/>
              </a:buClr>
              <a:buFont typeface="Wingdings" charset="2"/>
              <a:buChar char="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Tag de script: </a:t>
            </a:r>
            <a:r>
              <a:rPr b="0" lang="pt-BR" sz="4800" spc="-1" strike="noStrike" u="sng">
                <a:solidFill>
                  <a:srgbClr val="ccccff"/>
                </a:solidFill>
                <a:uFillTx/>
                <a:latin typeface="Verdana"/>
                <a:hlinkClick r:id="rId4"/>
              </a:rPr>
              <a:t>&lt;script&gt;</a:t>
            </a:r>
            <a:r>
              <a:rPr b="0" lang="pt-BR" sz="4800" spc="-1" strike="noStrike">
                <a:solidFill>
                  <a:srgbClr val="808080"/>
                </a:solidFill>
                <a:latin typeface="Verdana"/>
              </a:rPr>
              <a:t>.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6-13T23:05:30Z</dcterms:created>
  <dc:creator>Bruno C. de Paula</dc:creator>
  <dc:description/>
  <dc:language>en-US</dc:language>
  <cp:lastModifiedBy>Bruno Campagnolo de Paula</cp:lastModifiedBy>
  <dcterms:modified xsi:type="dcterms:W3CDTF">2009-11-04T17:28:36Z</dcterms:modified>
  <cp:revision>892</cp:revision>
  <dc:subject/>
  <dc:title>Aula 01 - Curso Técnico</dc:title>
</cp:coreProperties>
</file>