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25.xml" ContentType="application/vnd.openxmlformats-officedocument.presentationml.notesSlide+xml"/>
  <Override PartName="/ppt/notesSlides/_rels/notesSlide1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notesSlide34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_rels/presentation.xml.rels" ContentType="application/vnd.openxmlformats-package.relationships+xml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4.png" ContentType="image/png"/>
  <Override PartName="/ppt/media/image27.png" ContentType="image/png"/>
  <Override PartName="/ppt/media/image28.png" ContentType="image/png"/>
  <Override PartName="/ppt/media/image5.png" ContentType="image/png"/>
  <Override PartName="/ppt/media/image30.png" ContentType="image/png"/>
  <Override PartName="/ppt/media/image10.png" ContentType="image/png"/>
  <Override PartName="/ppt/media/image29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3.png" ContentType="image/png"/>
  <Override PartName="/ppt/media/image3.png" ContentType="image/png"/>
  <Override PartName="/ppt/media/image26.png" ContentType="image/png"/>
  <Override PartName="/ppt/media/image32.png" ContentType="image/png"/>
  <Override PartName="/ppt/media/image2.png" ContentType="image/png"/>
  <Override PartName="/ppt/media/image25.png" ContentType="image/png"/>
  <Override PartName="/ppt/media/image31.png" ContentType="image/png"/>
  <Override PartName="/ppt/media/image1.png" ContentType="image/png"/>
  <Override PartName="/ppt/media/image24.png" ContentType="image/png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9ACE0D-AA4E-4E3D-A89E-785EFA44F8C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hyperlink" Target="http://www.mandalatv.net/itp/drivebys/css/" TargetMode="External"/><Relationship Id="rId2" Type="http://schemas.openxmlformats.org/officeDocument/2006/relationships/slide" Target="../slides/slide11.xml"/><Relationship Id="rId3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C56D6F7-C334-4A75-8989-A9276E7F9EB1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</a:t>
            </a:r>
            <a:r>
              <a:rPr b="0" lang="pt-BR" sz="1200" spc="-1" strike="noStrike" u="sng">
                <a:solidFill>
                  <a:srgbClr val="ccccff"/>
                </a:solidFill>
                <a:uFillTx/>
                <a:latin typeface="Times New Roman"/>
                <a:ea typeface="MS Gothic"/>
                <a:hlinkClick r:id="rId1"/>
              </a:rPr>
              <a:t>http://www.mandalatv.net/itp/drivebys/css/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Fonte: Wikipedia (Box Mode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8CC5989-4037-4C29-ACA7-1448A67C6A3C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MS Gothic"/>
              </a:rPr>
              <a:t>Imagem retirada de: http://www.flickr.com/photos/24413864@N05/4044264068/sizes/l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9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Suspendisse semper odio in dui. Donec iaculi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 justo. Donec accumsan, justo vel pharetr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arius, libero mauris ultrices nisl, at pulvinar eni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lla vitae nunc. Duis imperdiet ultrices nisi. Se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landit. Praesent sed mi non nulla pulvinar ultricies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ed ultricies libero vitae nulla. Nunc suscipit nis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pede. Curabitur feugiat ipsum vel nibh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cursus lectus id quam. Cras nec tellus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urna mollis ornare. Nulla facilisi. Aliquam er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. Suspendisse potenti. Nam porta qua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landit es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erat volutpat. Etiam commodo massa a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. Nulla laoreet. Praesent pellentesque tellus 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. Integer lacinia neque. In hac habitasse plate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ctumst. Fusce ut velit. Morbi lacus orci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viverra, tempor et, dictum non, massa. Na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ttis dui dictum enim. Nulla id elit eu era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estibulum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823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magem com Float Left e problema com container pai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lef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260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igh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righ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12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sando clear both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360"/>
            <a:ext cx="5029200" cy="13809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absolut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2434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!DOC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80"/>
                </a:solidFill>
                <a:latin typeface="Courier New"/>
                <a:ea typeface="Courier New"/>
              </a:rPr>
              <a:t>PUBLI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-//W3C//DTD HTML 4.01//EN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tp://www.w3.org/TR/html4/strict.dtd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nam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generator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HTML Tidy, see www.w3.or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eta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http-equ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ent-Type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onten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html; charset=iso-8859-1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ntitled Document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it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type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text/css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#container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relative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top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20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adding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0px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width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0%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rd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1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ol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00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ackground-colo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#ccc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float_imagem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loa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margi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5px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0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.space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,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clear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left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osition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: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fixed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style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ead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id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container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orem ipsum dolor sit amet, consectetue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it.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2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Cras nec quam. Ut aliquam enim ut purus. Etiam i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iam id pede viverra pellentesque. Vestibulum ant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psum primis in faucibus orci luctus et ultric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bilia Curae; Ut sem purus, dictum molestie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liquam a, aliquam et, nulla. Quisque elementum. Morb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t dolor vel risus hendrerit dignissim. Aene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eu diam. Donec blandit, ipsum ve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pharetra, libero leo blandit felis, vita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apibus tellus velit sed nisi. Aliquam sagittis tell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dipiscing nisi. Duis elit turpis, mattis non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ultricies nec, dictum eu, mauris. Sed vel ipsum ne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quam feugiat consectetuer. In nec dolor. Proin du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ellus, laoreet at, pulvinar sed, auctor a, massa. D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lacinia volutpat orc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3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Mauris eu nulla eget ipsum auctor volutpat. Maur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retium. Duis mattis eleifend nunc. Etiam vestibulum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eque non sagittis lacinia, felis massa viverra mi, si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amet venenatis orci sem at ante. Nulla facilisi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mauris velit, auctor non, malesuada ut,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ellentesque quis, sem. Mauris sit amet neque vel nibh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ermentum convallis. In dapibus metus sed odio. Nulla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facilisi. Aliquam erat volutpat. Fusce a metus ut just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bibendum auctor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&amp;iacute;tulo 4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1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img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class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float_imagem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alt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"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</a:t>
            </a:r>
            <a:r>
              <a:rPr b="0" lang="en-US" sz="1000" spc="-1" strike="noStrike">
                <a:solidFill>
                  <a:srgbClr val="ff0000"/>
                </a:solidFill>
                <a:latin typeface="Courier New"/>
                <a:ea typeface="Courier New"/>
              </a:rPr>
              <a:t>src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=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"eu.png"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Donec nunc. Integer sit amet sapien a mauris vari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. Donec ultrices ipsum a tellus. Praese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bibendum quam. In imperdiet, diam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gestas imperdiet, quam ipsum pellentesque massa,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volutpat nulla sem id nulla. Suspendisse vel mi ege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urus lacinia tincidunt. In eget risus sit amet lacu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posuere cursus. Donec rutrum lacinia orci. Vestibulu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tincidunt dictum turpis. Sed porttitor, elit qui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rdum vestibulum, sem eros dictum mauris, a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leifend magna dui nec nulla. Donec tempor adipiscing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nunc. Etiam egestas mi iaculis risus. Mauris a diam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Suspendisse sit amet tortor tempor magna molesti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    </a:t>
            </a: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euismod.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p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div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body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lt;/</a:t>
            </a:r>
            <a:r>
              <a:rPr b="0" lang="en-US" sz="1000" spc="-1" strike="noStrike">
                <a:solidFill>
                  <a:srgbClr val="a31515"/>
                </a:solidFill>
                <a:latin typeface="Courier New"/>
                <a:ea typeface="Courier New"/>
              </a:rPr>
              <a:t>html</a:t>
            </a:r>
            <a:r>
              <a:rPr b="0" lang="en-US" sz="1000" spc="-1" strike="noStrike">
                <a:solidFill>
                  <a:srgbClr val="0000ff"/>
                </a:solidFill>
                <a:latin typeface="Courier New"/>
                <a:ea typeface="Courier New"/>
              </a:rPr>
              <a:t>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8ED84F-5A99-4764-9B7B-1BFF9BC197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7B7A09-CC49-4643-825F-E5D9B25A58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B1C9DBA-DA07-4292-9530-E0E199931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05CAD8-98A8-4F58-8B0D-BD198376F4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A5BB2C-B9E6-42FC-8E3A-4EA03154C5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EB923-BB40-44E3-BA41-99E83DE253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D3CCAD-1FA6-422E-BEB1-0E8FDB22B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0C9CE9-8938-4AFA-B4ED-DF16D85C29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42E55-8BDA-431F-AF91-BFEFEFD92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93EB1A-CB39-4FC5-A3D9-B2040DF1D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B7A18C-97FA-4AB4-9A33-B06513BC6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42DFEC-3236-4A4D-AD90-D7D989537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A28450-5B5C-43FB-BACD-3544F83DCFED}" type="slidenum">
              <a:rPr b="0" lang="pt-BR" sz="1800" spc="-1" strike="noStrike">
                <a:solidFill>
                  <a:srgbClr val="80808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80808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0/27/posicionamento-de-elementos-em-css/" TargetMode="External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image" Target="../media/image33.png"/><Relationship Id="rId3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tableless.com.br/propriedade-position-do-css" TargetMode="External"/><Relationship Id="rId2" Type="http://schemas.openxmlformats.org/officeDocument/2006/relationships/hyperlink" Target="http://www.pt-br.html.net/tutorials/css/lesson13.asp" TargetMode="External"/><Relationship Id="rId3" Type="http://schemas.openxmlformats.org/officeDocument/2006/relationships/hyperlink" Target="http://www.pt-br.html.net/tutorials/css/lesson14.asp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de Elementos</a:t>
            </a:r>
            <a:endParaRPr b="0" lang="en-US" sz="44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5D629A-CCE7-4F4B-AC59-12F74A0C7F9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Exemplos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MS Gothic"/>
              </a:rPr>
              <a:t>Exemplos em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200"/>
            </a:b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87480" y="44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Lembre-se do Box model!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88" name=""/>
          <p:cNvGrpSpPr/>
          <p:nvPr/>
        </p:nvGrpSpPr>
        <p:grpSpPr>
          <a:xfrm>
            <a:off x="2143080" y="928800"/>
            <a:ext cx="5888160" cy="5841720"/>
            <a:chOff x="2143080" y="928800"/>
            <a:chExt cx="5888160" cy="5841720"/>
          </a:xfrm>
        </p:grpSpPr>
        <p:graphicFrame>
          <p:nvGraphicFramePr>
            <p:cNvPr id="89" name=""/>
            <p:cNvGraphicFramePr/>
            <p:nvPr/>
          </p:nvGraphicFramePr>
          <p:xfrm>
            <a:off x="2143080" y="928800"/>
            <a:ext cx="5888160" cy="584172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90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143080" y="928800"/>
                      <a:ext cx="5888160" cy="5841720"/>
                    </a:xfrm>
                    <a:prstGeom prst="rect">
                      <a:avLst/>
                    </a:prstGeom>
                    <a:ln w="0">
                      <a:noFill/>
                    </a:ln>
                  </p:spPr>
                </p:pic>
              </p:oleObj>
            </a:graphicData>
          </a:graphic>
        </p:graphicFrame>
        <p:sp>
          <p:nvSpPr>
            <p:cNvPr id="91" name=""/>
            <p:cNvSpPr/>
            <p:nvPr/>
          </p:nvSpPr>
          <p:spPr>
            <a:xfrm>
              <a:off x="2143080" y="928800"/>
              <a:ext cx="5888160" cy="5841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Box model para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elementos em bloco</a:t>
            </a:r>
            <a:br>
              <a:rPr sz="3200"/>
            </a:b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IE (6 e 7) x Resto do Mundo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340000" y="1484280"/>
            <a:ext cx="4324320" cy="5372280"/>
            <a:chOff x="2340000" y="1484280"/>
            <a:chExt cx="4324320" cy="5372280"/>
          </a:xfrm>
        </p:grpSpPr>
        <p:pic>
          <p:nvPicPr>
            <p:cNvPr id="94" name="" descr=""/>
            <p:cNvPicPr/>
            <p:nvPr/>
          </p:nvPicPr>
          <p:blipFill>
            <a:blip r:embed="rId1"/>
            <a:stretch/>
          </p:blipFill>
          <p:spPr>
            <a:xfrm>
              <a:off x="2340000" y="1484280"/>
              <a:ext cx="4324320" cy="5372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2340000" y="1484280"/>
              <a:ext cx="4324320" cy="537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808080"/>
                </a:solidFill>
                <a:latin typeface="Arial"/>
              </a:endParaRPr>
            </a:p>
          </p:txBody>
        </p:sp>
      </p:grp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Visualizar o Box Model com Firebug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Instalar o Firebug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http://www.getfirebug.com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ecla F12!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C7E355-5C71-483A-B006-9F9B2DC1EA35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1071720" y="5072040"/>
            <a:ext cx="7038720" cy="146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5143680" cy="6858000"/>
          </a:xfrm>
          <a:prstGeom prst="rect">
            <a:avLst/>
          </a:prstGeom>
          <a:ln w="0">
            <a:noFill/>
          </a:ln>
        </p:spPr>
      </p:pic>
      <p:sp>
        <p:nvSpPr>
          <p:cNvPr id="102" name=""/>
          <p:cNvSpPr/>
          <p:nvPr/>
        </p:nvSpPr>
        <p:spPr>
          <a:xfrm>
            <a:off x="179280" y="0"/>
            <a:ext cx="8085240" cy="1440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79280" y="2700360"/>
            <a:ext cx="50403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Determina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c5000b"/>
                </a:solidFill>
                <a:latin typeface="Verdana"/>
                <a:ea typeface="MS Gothic"/>
              </a:rPr>
              <a:t> de um elemento em relação ao fluxo da página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610304-78AC-4E3D-B96C-43CB6F56052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5400720" y="179280"/>
            <a:ext cx="3465360" cy="620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ne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AB5C4C-EDA2-44F0-B84B-A059DF7A729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179280" y="2747880"/>
            <a:ext cx="4140360" cy="2652840"/>
          </a:xfrm>
          <a:prstGeom prst="rect">
            <a:avLst/>
          </a:prstGeom>
          <a:ln w="0">
            <a:noFill/>
          </a:ln>
        </p:spPr>
      </p:pic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4319640" y="2700360"/>
            <a:ext cx="4562280" cy="249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360360" y="1079640"/>
            <a:ext cx="8280360" cy="521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float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4920" y="1600200"/>
            <a:ext cx="883116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 elemento é posicionado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reit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Os seguintes ficam à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squer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95757C-D617-414A-996B-9741B993495C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18" name="" descr=""/>
          <p:cNvPicPr/>
          <p:nvPr/>
        </p:nvPicPr>
        <p:blipFill>
          <a:blip r:embed="rId1"/>
          <a:stretch/>
        </p:blipFill>
        <p:spPr>
          <a:xfrm>
            <a:off x="179280" y="3060720"/>
            <a:ext cx="4680000" cy="2879640"/>
          </a:xfrm>
          <a:prstGeom prst="rect">
            <a:avLst/>
          </a:prstGeom>
          <a:ln w="0">
            <a:noFill/>
          </a:ln>
        </p:spPr>
      </p:pic>
      <p:pic>
        <p:nvPicPr>
          <p:cNvPr id="119" name="" descr=""/>
          <p:cNvPicPr/>
          <p:nvPr/>
        </p:nvPicPr>
        <p:blipFill>
          <a:blip r:embed="rId2"/>
          <a:stretch/>
        </p:blipFill>
        <p:spPr>
          <a:xfrm>
            <a:off x="4859280" y="3068640"/>
            <a:ext cx="4230720" cy="179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187200" y="1619280"/>
            <a:ext cx="8632800" cy="32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"/>
          <p:cNvSpPr/>
          <p:nvPr/>
        </p:nvSpPr>
        <p:spPr>
          <a:xfrm>
            <a:off x="179280" y="179280"/>
            <a:ext cx="8805960" cy="21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blema: o contâiner pai se adapta aos elementos colocados depois do elemento com o floa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76525F-EF15-4C8B-918C-E819DCDCE20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24" name="" descr=""/>
          <p:cNvPicPr/>
          <p:nvPr/>
        </p:nvPicPr>
        <p:blipFill>
          <a:blip r:embed="rId1"/>
          <a:stretch/>
        </p:blipFill>
        <p:spPr>
          <a:xfrm>
            <a:off x="179280" y="3240000"/>
            <a:ext cx="885060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hecemos, no semestre passado diversos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seletores e propriedade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CS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mbém trabalhamos com propriedade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mens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(box model)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Nosso objetivo hoje será iniciar o trabalh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osicioname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e elemento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 clear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ntrola o comportamento de um elemento em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 relação ao estado de 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s element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alores possívei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lef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righ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lear: both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50BD3B-A667-4234-9B35-5C3631A1195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lef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lef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36CD14-093C-4AAD-9537-661BC4BC91E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77760" y="4114800"/>
            <a:ext cx="3162240" cy="27432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4319640" y="4319640"/>
            <a:ext cx="4591080" cy="1971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339840" y="900000"/>
            <a:ext cx="8480160" cy="395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right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igual a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3697CD-9EA5-4965-BBFF-BFD876E628B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179280" y="4162320"/>
            <a:ext cx="3029040" cy="26956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2"/>
          <a:stretch/>
        </p:blipFill>
        <p:spPr>
          <a:xfrm>
            <a:off x="4087800" y="4319640"/>
            <a:ext cx="4552920" cy="1400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187200" y="873000"/>
            <a:ext cx="8632800" cy="3986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clear: both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Busc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o elemento anterior com valor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Move o elemento com clear igual a right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obrigatoriamente abaix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do element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loat qualqu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ACFFE7-8AA8-4FD1-A1AD-5B34FE096606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69840" y="4278240"/>
            <a:ext cx="2990880" cy="238140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4140360" y="4319640"/>
            <a:ext cx="4619520" cy="2295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" descr=""/>
          <p:cNvPicPr/>
          <p:nvPr/>
        </p:nvPicPr>
        <p:blipFill>
          <a:blip r:embed="rId1"/>
          <a:stretch/>
        </p:blipFill>
        <p:spPr>
          <a:xfrm>
            <a:off x="168120" y="1225440"/>
            <a:ext cx="8651880" cy="3814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olvendo o problema da adaptação do contâiner pai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	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ar um espaçador (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pac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 com clea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07920"/>
                <a:tab algn="l" pos="1822320"/>
                <a:tab algn="l" pos="2736720"/>
                <a:tab algn="l" pos="3651120"/>
                <a:tab algn="l" pos="4565520"/>
                <a:tab algn="l" pos="5479920"/>
                <a:tab algn="l" pos="6394320"/>
                <a:tab algn="l" pos="7308720"/>
                <a:tab algn="l" pos="8223120"/>
                <a:tab algn="l" pos="9137520"/>
                <a:tab algn="l" pos="10051920"/>
                <a:tab algn="l" pos="10329840"/>
                <a:tab algn="l" pos="1077912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68A052-8D81-48A1-AA46-79D9731CECF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220680" y="2700360"/>
            <a:ext cx="3919680" cy="4140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4191120" y="2519280"/>
            <a:ext cx="4808520" cy="1979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" descr=""/>
          <p:cNvPicPr/>
          <p:nvPr/>
        </p:nvPicPr>
        <p:blipFill>
          <a:blip r:embed="rId1"/>
          <a:stretch/>
        </p:blipFill>
        <p:spPr>
          <a:xfrm>
            <a:off x="179280" y="1619280"/>
            <a:ext cx="8640720" cy="2160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"/>
          <p:cNvSpPr/>
          <p:nvPr/>
        </p:nvSpPr>
        <p:spPr>
          <a:xfrm>
            <a:off x="360360" y="260280"/>
            <a:ext cx="85327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Tipos de posicionamento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360360" y="1600200"/>
            <a:ext cx="8505720" cy="498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Estátic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static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Relativ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tiv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Absolut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bsolut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mento Fixo (position: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fixed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)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5C3EEE7-DB12-4505-A336-BB493E24865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Resum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é err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Leitura obrigatória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estátic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static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drão, como os elementos são colocados po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padr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129D2F-A6D2-4660-BFDD-DF6040476172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tretch/>
        </p:blipFill>
        <p:spPr>
          <a:xfrm>
            <a:off x="1260360" y="2879640"/>
            <a:ext cx="6840720" cy="3888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relativ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relativ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relaçã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ao posicionamento estátic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3C15F9-F0DA-454B-B557-789576AF8741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319640" y="3959280"/>
            <a:ext cx="4680000" cy="2700360"/>
          </a:xfrm>
          <a:prstGeom prst="rect">
            <a:avLst/>
          </a:prstGeom>
          <a:ln w="0">
            <a:noFill/>
          </a:ln>
        </p:spPr>
      </p:pic>
      <p:pic>
        <p:nvPicPr>
          <p:cNvPr id="171" name="" descr=""/>
          <p:cNvPicPr/>
          <p:nvPr/>
        </p:nvPicPr>
        <p:blipFill>
          <a:blip r:embed="rId2"/>
          <a:stretch/>
        </p:blipFill>
        <p:spPr>
          <a:xfrm>
            <a:off x="198360" y="4078440"/>
            <a:ext cx="3581640" cy="2220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absolut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absolute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ao canto superior esquerdo ou canto superior direito do elemento pai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5E6B1F-B1EC-4909-9E34-BE71DF22F4F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" descr=""/>
          <p:cNvPicPr/>
          <p:nvPr/>
        </p:nvPicPr>
        <p:blipFill>
          <a:blip r:embed="rId1"/>
          <a:stretch/>
        </p:blipFill>
        <p:spPr>
          <a:xfrm>
            <a:off x="179280" y="81000"/>
            <a:ext cx="4319640" cy="1898640"/>
          </a:xfrm>
          <a:prstGeom prst="rect">
            <a:avLst/>
          </a:prstGeom>
          <a:ln w="0">
            <a:noFill/>
          </a:ln>
        </p:spPr>
      </p:pic>
      <p:pic>
        <p:nvPicPr>
          <p:cNvPr id="177" name="" descr=""/>
          <p:cNvPicPr/>
          <p:nvPr/>
        </p:nvPicPr>
        <p:blipFill>
          <a:blip r:embed="rId2"/>
          <a:stretch/>
        </p:blipFill>
        <p:spPr>
          <a:xfrm>
            <a:off x="216000" y="2160720"/>
            <a:ext cx="5724360" cy="4140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60360" y="176040"/>
            <a:ext cx="853272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cionamento fixo</a:t>
            </a:r>
            <a:br>
              <a:rPr sz="4000"/>
            </a:b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position: fixed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60360" y="1600200"/>
            <a:ext cx="850572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ção em relação à janela do navegador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Usa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top, left, bottom e 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“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scapa” ao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58E22B-EF6A-4EE5-A7F6-09AD9FA725E7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4FF787D-EA58-42DE-A6ED-A4785E79948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óximas aulas de CSS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0" y="2214720"/>
            <a:ext cx="8553600" cy="380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CSS Posicionamento: layouts;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001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808080"/>
                </a:solidFill>
                <a:latin typeface="Verdana"/>
                <a:ea typeface="MS Gothic"/>
              </a:rPr>
              <a:t>Menus, Botões e Forms.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60F8-E349-425F-BC34-84A5D53FBAD9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ropriedade position do CS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http://www.tableless.com.br/propriedade-position-do-css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Flutu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http://www.pt-br.html.net/tutorials/css/lesson13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osicionando elementos: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http://www.pt-br.html.net/tutorials/css/lesson14.asp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  <a:ea typeface="MS Gothic"/>
              </a:rPr>
              <a:t>Material referente ao assunto da aula</a:t>
            </a:r>
            <a:endParaRPr b="0" lang="en-US" sz="40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CSS – Guia de Bols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D90BF86-23F2-423F-AD70-7272B20C98A3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pic>
        <p:nvPicPr>
          <p:cNvPr id="70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0D772F-2E30-42A3-AB47-09DB07853DC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F95FD5-5D2C-47FB-A39E-E84F3F01852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  <a:ea typeface="MS Gothic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 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tipo de posicionamento de um element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  <a:ea typeface="MS Gothic"/>
              </a:rPr>
              <a:t>)</a:t>
            </a:r>
            <a:endParaRPr b="0" lang="en-US" sz="36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largura de um elemento, obrigatório nos elementos com float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46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06-16T19:09:20Z</dcterms:modified>
  <cp:revision>852</cp:revision>
  <dc:subject/>
  <dc:title>Aula 01 - Curso Técnico</dc:title>
</cp:coreProperties>
</file>