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6C032-7BB1-4D05-B4C3-484F6E3A464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mandalatv.net/itp/drivebys/css/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DA48F-1C81-4AF4-B754-5143C7E45A88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Times New Roman"/>
                <a:ea typeface="MS Gothic"/>
                <a:hlinkClick r:id="rId1"/>
              </a:rPr>
              <a:t>http://www.mandalatv.net/itp/drivebys/css/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Wikipedia (Box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280C8-132A-4136-88C0-9A4B18722BDF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magem retirada de: http://www.flickr.com/photos/24413864@N05/4044264068/sizes/l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823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 e problema com container pai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righ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absolu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243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o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2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ixe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3461-45B2-4C83-845C-1846AF78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3B0A-080D-4E3C-900A-3C1575E5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95595-7F24-4835-A539-4F5FDDBD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3865E-1267-4375-933B-A0C135B3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2304-61AF-49F2-9F2D-BAA49B47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EC18C-07F6-4E2B-BEB0-E2045C87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BD58-A436-418F-8636-C2A894FE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33C34-78AF-46CE-B9F2-7EC8E8DB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5A7B7-F3A3-475E-9529-007771F9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0442E-CF8F-4CE9-8A0B-B806AC6A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64FE1-3513-4315-AAD5-ACB540B0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F0FA1-46BD-4C1A-AF8F-3BD17299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FEC8D-1742-42F5-8D05-3216C1D51FEC}" type="slidenum">
              <a:rPr b="0" lang="pt-BR" sz="1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0/27/posicionamento-de-elementos-em-css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bleless.com.br/propriedade-position-do-css" TargetMode="External"/><Relationship Id="rId2" Type="http://schemas.openxmlformats.org/officeDocument/2006/relationships/hyperlink" Target="http://www.pt-br.html.net/tutorials/css/lesson13.asp" TargetMode="External"/><Relationship Id="rId3" Type="http://schemas.openxmlformats.org/officeDocument/2006/relationships/hyperlink" Target="http://www.pt-br.html.net/tutorials/css/lesson14.asp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de Elemento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9B8BC-7245-4149-8D31-FAB244A425A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Exemplos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MS Gothic"/>
              </a:rPr>
              <a:t>Exemplos em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480" y="44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Lembre-se do Box model!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43080" y="928800"/>
            <a:ext cx="5888160" cy="5841720"/>
            <a:chOff x="2143080" y="928800"/>
            <a:chExt cx="5888160" cy="5841720"/>
          </a:xfrm>
        </p:grpSpPr>
        <p:graphicFrame>
          <p:nvGraphicFramePr>
            <p:cNvPr id="89" name=""/>
            <p:cNvGraphicFramePr/>
            <p:nvPr/>
          </p:nvGraphicFramePr>
          <p:xfrm>
            <a:off x="2143080" y="928800"/>
            <a:ext cx="5888160" cy="58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3080" y="928800"/>
                      <a:ext cx="5888160" cy="58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2143080" y="928800"/>
              <a:ext cx="5888160" cy="58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Box model para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elementos em bloco</a:t>
            </a:r>
            <a:br>
              <a:rPr sz="3200"/>
            </a:b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IE (6 e 7) x Resto do Mundo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40000" y="1484280"/>
            <a:ext cx="4324320" cy="5372280"/>
            <a:chOff x="2340000" y="1484280"/>
            <a:chExt cx="4324320" cy="53722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4324320" cy="537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340000" y="1484280"/>
              <a:ext cx="4324320" cy="53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Visualizar o Box Model com Firebu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Instalar o Firebug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http://www.getfirebug.co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ecla F12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2B600-6808-467E-9E52-F63C5FE81CE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71720" y="5072040"/>
            <a:ext cx="7038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0"/>
            <a:ext cx="8085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70036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Determina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 de um elemento em relação ao fluxo da página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58E59-4612-40C4-A834-5A8F9B3F58B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00720" y="179280"/>
            <a:ext cx="346536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ne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0FD0E-12EF-47A3-A449-ABEF7D4DB12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747880"/>
            <a:ext cx="41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19640" y="2700360"/>
            <a:ext cx="4562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2803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9D3B6-FEB9-4936-9A4B-494CABE1F52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3060720"/>
            <a:ext cx="46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423072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200" y="1619280"/>
            <a:ext cx="8632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179280"/>
            <a:ext cx="8805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blema: o contâiner pai se adapta aos elementos colocados depois do elemento com o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FF1FA-F49C-4592-8B94-3296D7EA182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3240000"/>
            <a:ext cx="8850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hecemos, no semestre passado diversos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seletores e propriedade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CS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mbém trabalhamos com propriedade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mens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(box model)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sso objetivo hoje será iniciar o trabalh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clear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trola o comportamento de um elemento em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 relação ao estado de 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s element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 possívei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both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210B3-0009-4C75-92BB-9946C2896A9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lef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8D682-A321-4201-9164-B8FA5312EDB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760" y="4114800"/>
            <a:ext cx="316224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9640" y="4319640"/>
            <a:ext cx="45910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9840" y="900000"/>
            <a:ext cx="84801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CF9C6-7331-47D2-B19F-D0A01E46315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162320"/>
            <a:ext cx="3029040" cy="269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87800" y="4319640"/>
            <a:ext cx="455292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7200" y="873000"/>
            <a:ext cx="863280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both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69A8E-66FC-435D-BD34-E09872A847A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840" y="4278240"/>
            <a:ext cx="2990880" cy="2381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4319640"/>
            <a:ext cx="46195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8120" y="1225440"/>
            <a:ext cx="86518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olvendo o problema da adaptação do contâiner pai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	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ar um espaçador (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pac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 com clea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A4E16-1B47-48EA-BB4A-44C367CEA30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0680" y="2700360"/>
            <a:ext cx="3919680" cy="414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91120" y="2519280"/>
            <a:ext cx="48085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864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Tipos de posicionamento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360" y="1600200"/>
            <a:ext cx="85057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Estátic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tatic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Relativ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tiv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Absolut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bsolut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Fix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ixed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15055-8563-4EC8-A877-371FAA97CA0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é err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itura obrigatória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estátic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static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drão, como os elementos são colocados po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adr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C8DE7-0C92-4917-9B3B-C9F8482A4F0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60360" y="2879640"/>
            <a:ext cx="6840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relativ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rel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ç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ao posicionamento estátic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6A2FA-7372-4762-9825-9FEA93601BC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19640" y="3959280"/>
            <a:ext cx="4680000" cy="270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8360" y="4078440"/>
            <a:ext cx="35816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absolut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absolut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ao canto superior esquerdo ou canto superior direito do elemento pai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0FB28-4457-4A3F-BCEB-B4DFA9B3332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81000"/>
            <a:ext cx="4319640" cy="1898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6000" y="2160720"/>
            <a:ext cx="57243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fix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fixed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à janela do navegado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E3845-050E-4F59-9BAE-EAF4436C759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1D4DB-82BD-4628-823F-79168A6F3D4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óximas aulas de CS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14720"/>
            <a:ext cx="855360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CSS Posicionamento: layouts;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Menus, Botões e Forms.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12C4D-1140-45EE-A67B-AF0392EE860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ropriedade position do CS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tableless.com.br/propriedade-position-do-cs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Flutu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http://www.pt-br.html.net/tutorials/css/lesson13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http://www.pt-br.html.net/tutorials/css/lesson14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SS – Guia de Bols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8DE45-84B6-4B1F-86DD-80322017CBC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9666B-3B08-48B2-B2F5-847AA81F572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D5D7B-C99F-48F4-92E9-BCB6CE3097F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tipo de posicionamento de um element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largura de um elemento, obrigatório nos elementos com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06-16T19:09:20Z</dcterms:modified>
  <cp:revision>852</cp:revision>
  <dc:subject/>
  <dc:title>Aula 01 - Curso Técnico</dc:title>
</cp:coreProperties>
</file>