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B8555-4EEA-42D8-BEA7-D35662DD24F7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8BFACE-EAB9-4DA2-9E3D-7887FBB725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647E12-01E7-46F9-A3C2-A4ED4860A4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820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9560" y="159984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820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9560" y="5021280"/>
            <a:ext cx="26485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4E8C86-65F6-4AF2-ACD3-1A3397F80561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E126289-B28F-42D4-ADFD-378A9A2023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405CCC-7590-4FE5-9683-D48F52FD8E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CFA954F-AA0C-4F45-A003-5FF647505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C1D1BB-F531-4724-93FE-0632ED4FD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128520"/>
            <a:ext cx="82263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5E22E2-23A6-4CC3-B20A-F0546E3EB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BB6D4A1-7A82-4E8C-8C82-E517F9070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2440" y="502128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C3F4C8-F210-4DE7-8BFA-B8275714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2440" y="1599840"/>
            <a:ext cx="4014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5021280"/>
            <a:ext cx="822636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46747C-CFF5-4365-9907-3587CD882B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28520"/>
            <a:ext cx="82263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6360" cy="655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04/05/1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"/>
          <p:cNvSpPr/>
          <p:nvPr/>
        </p:nvSpPr>
        <p:spPr>
          <a:xfrm>
            <a:off x="3124080" y="6308640"/>
            <a:ext cx="289584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6553080" y="6307200"/>
            <a:ext cx="2130480" cy="458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2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826C0C7-CB53-465A-8B0F-5BA71E073876}" type="slidenum">
              <a:rPr b="0" lang="en-US" sz="2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2130480"/>
            <a:ext cx="7772400" cy="146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 and CSS: The Basic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371600" y="3886200"/>
            <a:ext cx="6400800" cy="175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John Ryd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www.johnryding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@strife2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idth” and Block Ele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457200" y="1600200"/>
            <a:ext cx="8229600" cy="542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have different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auto: means "expand to the inner width of my parent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100%: means "expand to the same width as the first ancestor with position: relative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Length (px, em, etc.): set a fixed width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%: set a width relative to width of parent box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ttp://www.johnryding.com/pres/width.htm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457200" y="190440"/>
            <a:ext cx="8229600" cy="13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4000" spc="-1" strike="noStrike">
                <a:solidFill>
                  <a:srgbClr val="000000"/>
                </a:solidFill>
                <a:latin typeface="Calibri"/>
              </a:rPr>
              <a:t>Floats, Overflow, and Element Positioning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457200" y="1600200"/>
            <a:ext cx="8229600" cy="546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float” property is used to move elements around pag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Used to keep elements a part of the page flow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All elements defaults to “float: none”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Elements that exist after floated elements will wrap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olved by clearing the flo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Overflow property is useful for forcing floated divs to become separate from siblings and to clear floats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Calibri"/>
              </a:rPr>
              <a:t>http://www.johnryding.com/pres/floats.htm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67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E and Has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457200" y="1600200"/>
            <a:ext cx="8229600" cy="50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Hidden property in IE’s rendering engin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 that “has layout” set to true is responsible for sizing and positioning itself and child elemen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lements that don’t have layout produce bugs in your page in I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Best solutio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= IE6: set “height: 1%” (only if overflow != visi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gt;= IE7: set “min-height: 0”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nditional Commen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IE Specific CSS Ru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IE]&gt; only IE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&lt;!--[if gte IE 6]&gt; only IE6+ will display this text&lt;![endif]--&gt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an use lt, lte, gt, gt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owser versions: 5, 5.5, 6, 7, 8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inks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css-tricks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smashingmagazine.com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alistapart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ww.quirksmode.com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"/>
          <p:cNvSpPr/>
          <p:nvPr/>
        </p:nvSpPr>
        <p:spPr>
          <a:xfrm>
            <a:off x="457200" y="270504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K thx bai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ols of the Tra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0" y="1600200"/>
            <a:ext cx="8229600" cy="48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Browser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E 6/7/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Firefox 3.0+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Safari 3.0+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hrome, Oper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rebug (a firefox extens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Web Inspector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veloper menu in Chro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Debug menu in Safari (not stabl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IE8 Developer Tools (IE8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Can render pages in version 7 or 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TM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for mapping out the structure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ver use tables for layou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at’s what CSS is fo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asic HTML Structur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DOCTYPE 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tml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title&gt;My Awesome Page Title&lt;/tit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link type="text/css" rel="stylesheet" href=“/path/to/file.css"/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tyle type="text/css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CSS Ru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tyle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 src=“/path/to/file.js”&gt;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script type=“text/javascript”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//javascript cod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script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ead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!– Structure and Content of your page --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body&g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3984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43080"/>
                <a:tab algn="l" pos="790560"/>
                <a:tab algn="l" pos="1239840"/>
                <a:tab algn="l" pos="1689120"/>
                <a:tab algn="l" pos="2138400"/>
                <a:tab algn="l" pos="2587680"/>
                <a:tab algn="l" pos="3036960"/>
                <a:tab algn="l" pos="3486240"/>
                <a:tab algn="l" pos="3935520"/>
                <a:tab algn="l" pos="4384800"/>
                <a:tab algn="l" pos="4834080"/>
                <a:tab algn="l" pos="5283360"/>
                <a:tab algn="l" pos="5732640"/>
                <a:tab algn="l" pos="6181560"/>
                <a:tab algn="l" pos="6630840"/>
                <a:tab algn="l" pos="7080120"/>
                <a:tab algn="l" pos="7529400"/>
                <a:tab algn="l" pos="7978680"/>
                <a:tab algn="l" pos="8427960"/>
                <a:tab algn="l" pos="8877240"/>
                <a:tab algn="l" pos="932652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&lt;/html&gt;</a:t>
            </a: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57200" y="1600200"/>
            <a:ext cx="8229600" cy="537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d to create the layout and look of your pag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ndles all design elements from font, borders, images, and some effect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HTML through the use of selec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SS sees everything in an HTML page as a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SS Selec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57200" y="1600200"/>
            <a:ext cx="8229600" cy="47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ight most selector determines performance of a CSS r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style=“width: 100%;“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    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span class=“foo lolz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5360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div.foo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39840">
              <a:lnSpc>
                <a:spcPct val="80000"/>
              </a:lnSpc>
              <a:spcBef>
                <a:spcPts val="425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7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HTML: &lt;div class=“foo”&gt;&lt;/div&gt;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#ba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div id=“bar”&gt;&lt;/div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 A:hover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a href=“www.johnryding.com”&gt;Click Here!&lt;/a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lectors Cont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457200" y="1600200"/>
            <a:ext cx="8229600" cy="565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&gt; li 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&lt;li&gt; &lt;/li&gt; &lt;ul&gt; &lt;!– Won’t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SS:     ul li *{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HTML: &lt;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ul&gt;    &lt;li&gt; &lt;/li&gt;   &lt;ul&gt; &lt;!– Will affect these tags --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li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5360">
              <a:lnSpc>
                <a:spcPct val="80000"/>
              </a:lnSpc>
              <a:spcBef>
                <a:spcPts val="4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&lt;/u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1" lang="en-US" sz="2000" spc="-1" strike="noStrike">
                <a:solidFill>
                  <a:srgbClr val="000000"/>
                </a:solidFill>
                <a:latin typeface="Calibri"/>
              </a:rPr>
              <a:t>ul &gt; li” is faster to render than “ul li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x Mode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457200" y="1600200"/>
            <a:ext cx="8229600" cy="46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Every element on a page is a rectangular box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The sizing, positioning, and behavior of these boxes is controlled by CS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.box {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margin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padding: 0 0 0 0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border: 1px solid black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height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width: 100%;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pt-BR" sz="2500" spc="-1" strike="noStrike">
                <a:solidFill>
                  <a:srgbClr val="000000"/>
                </a:solidFill>
                <a:latin typeface="Calibri"/>
              </a:rPr>
              <a:t>}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5110200" y="2876400"/>
            <a:ext cx="3262320" cy="324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457200" y="2746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“</a:t>
            </a: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isplay” Ru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457200" y="1600200"/>
            <a:ext cx="8229600" cy="624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Determines how a page element is rendered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Has three propertie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block: takes up the full available width and forces a new line before and after itself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inline: the width of its content, and does not insert new l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None: hides the element completely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div&gt;and &lt;p&gt; are block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“</a:t>
            </a:r>
            <a:r>
              <a:rPr b="0" lang="en-US" sz="2600" spc="-1" strike="noStrike">
                <a:solidFill>
                  <a:srgbClr val="000000"/>
                </a:solidFill>
                <a:latin typeface="Calibri"/>
                <a:ea typeface="ＭＳ Ｐゴシック"/>
              </a:rPr>
              <a:t>width: auto;” by defaul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39840" indent="-339840">
              <a:lnSpc>
                <a:spcPct val="9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&lt;a&gt; and &lt;span&gt; are inline elements by defaul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2600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339840"/>
                <a:tab algn="l" pos="787320"/>
                <a:tab algn="l" pos="1236600"/>
                <a:tab algn="l" pos="1685880"/>
                <a:tab algn="l" pos="2135160"/>
                <a:tab algn="l" pos="2584440"/>
                <a:tab algn="l" pos="3033720"/>
                <a:tab algn="l" pos="3483000"/>
                <a:tab algn="l" pos="3932280"/>
                <a:tab algn="l" pos="4381560"/>
                <a:tab algn="l" pos="4830840"/>
                <a:tab algn="l" pos="5280120"/>
                <a:tab algn="l" pos="5729400"/>
                <a:tab algn="l" pos="6178680"/>
                <a:tab algn="l" pos="6627960"/>
                <a:tab algn="l" pos="7077240"/>
                <a:tab algn="l" pos="7526160"/>
                <a:tab algn="l" pos="7975440"/>
                <a:tab algn="l" pos="8424720"/>
                <a:tab algn="l" pos="8874000"/>
                <a:tab algn="l" pos="9323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04T20:42:33Z</dcterms:created>
  <dc:creator>John Ryding</dc:creator>
  <dc:description/>
  <dc:language>en-US</dc:language>
  <cp:lastModifiedBy>John Ryding</cp:lastModifiedBy>
  <dcterms:modified xsi:type="dcterms:W3CDTF">2010-02-22T20:32:09Z</dcterms:modified>
  <cp:revision>7</cp:revision>
  <dc:subject/>
  <dc:title>Intro to HTML and CSS</dc:title>
</cp:coreProperties>
</file>