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937B5-FD4C-417D-A211-39DB67DADA36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77862-F1C8-4C5C-893A-A9E379561BE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97DF1-0FE0-44A5-B76B-234D1E19D0FD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B7DDA-7BB8-4A91-A313-AC54C136EF3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FDDCA-F31C-4BAC-AA53-62DB99CF819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60F0F-32F5-4D53-B618-6D521E010A2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C0035-9B14-453A-957E-D7F2B967527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017C1-D08F-494A-B69D-4F62A311E74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71F64-9733-4910-B558-2A7B7CE5025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8CEDD-6904-4F68-835A-E0830534598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803B1-E6E1-4665-A360-2BEDCADF5FD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ED845-821A-45F4-B9DC-E5854D59F3F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CBF77-43A4-495F-81A8-15E9F9523EE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160EF-D753-4B4E-AFCB-1D532F5C4AA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6E119-B51C-4530-A74D-E180F90FE5B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EE68D-033E-4E92-AC88-19D5FD23FB0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10A4C-D543-4735-B7F4-FD68BF35397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E2C23-1C59-461F-B08D-42274AB6793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4FF1B-10F0-4354-A444-E08D939825B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ECC8E-7CC6-4342-9D84-CB01DFEFB67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Imagem original 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http://www.flickr.com/photos/mlostracco/435561154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32271-2739-47A4-B586-11969F12176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FF4F5-14B4-4FF0-8913-625B027FFC7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8207F-C67E-4F02-85A0-6FAF91C0B11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F8BF3-3183-41DF-8795-EE2B511850D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274A1-D096-4A6F-A714-B4D871472AE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79B4B-3E6B-450B-A609-C34F72E7D34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-1496880"/>
            <a:ext cx="5029200" cy="169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5-LayoutBaseadoEmTabelas.html - Layout baseado em tabelas, o que vimos até agora,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  <a:ea typeface="WenQuanYi Micro Hei"/>
              </a:rPr>
              <a:t>não é a solução ide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6-LayoutBaseadoEmParagrafos.html - Layout baseado em parágrafos (&lt;p&gt;) e quebras de linha (&lt;br&gt;)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seados em floa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listas de definição (&lt;dl&gt;, &lt;dd&gt;, &lt;dt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camadas (&lt;div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ódigo HTML bastante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limpo e acessíve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Funciona bem mesmo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sem CS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9900ff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Fácil leitur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pelo usuário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Prevê dispositivos com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 baixa resoluçã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de largura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SS Aplicado muda pouco em relação à versão anterior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Não é uma boa abordagem bom para formatações complexas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Sugere-se a colocação de separador entre os ite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fieldset p {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margin:3px 0 2px 0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order:1px solid #aa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padding:5px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ckground:#ccc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}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12"/>
              </a:spcBef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E1180-D989-43F8-97F5-6BADDB83469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Desafio!: Renderização padrão em navegadores diferentes é sempre diferente. Botões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NUN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vão ficar exatamente igu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Fonte: Página 173 do Beggining C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8E03C-3476-4376-890D-20B59287974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99D50-F519-40B3-B979-E27589D0AE7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E4ACF-37AC-46FA-A5D7-54FA9B3B0E2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AF6A4-C591-4499-8174-AAE5A84886D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9A12B-0372-4B3E-BC10-43AF8BFA70F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79003-518C-4388-80A4-B8C8236590A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E197E-7FDE-458E-B114-F09FF1DC753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68F5E-D3EF-4474-9CAB-96EB67DFA48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49EA1-082F-44B0-AD07-791FE5C5B09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6350A-9357-4D40-B755-183F2486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BEE6-C230-45CF-B810-DA498203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A9FF3-27B8-4F62-A6E7-F5F3BF49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0FBA0-1BEC-40BA-AF7E-40745470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73B0D-6629-41A3-A365-2C22A7C5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4CCFF-A9A2-49AE-BA8A-558D698C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E3B79-19B7-4FCA-A40F-478108B6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5D5DE-76FC-4B5D-8541-BDF2A8CA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1E613-FADE-436B-93EB-21C22E97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D5F87-6990-4851-90BC-B62F4A60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67A4C-2A02-40A7-88E9-2D8BAAC7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EFB21-BF2C-4F6E-AAE9-0B69C9AE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966A1-5E53-4E7C-89B3-B21FAB7458AC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1/03/layout-de-elementos-em-css/" TargetMode="External"/><Relationship Id="rId2" Type="http://schemas.openxmlformats.org/officeDocument/2006/relationships/hyperlink" Target="http://www.brunocampagnolo.com/2009li/2009/10/27/posicionamento-de-elementos-em-css/" TargetMode="External"/><Relationship Id="rId3" Type="http://schemas.openxmlformats.org/officeDocument/2006/relationships/hyperlink" Target="http://www.brunocampagnolo.com/2009li/2009/10/27/posicionamento-de-elementos-em-css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ucpr.br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abcorp.com.au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htmldog.com/articles/elasticdesign/demo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csseasy.com/" TargetMode="External"/><Relationship Id="rId3" Type="http://schemas.openxmlformats.org/officeDocument/2006/relationships/hyperlink" Target="http://layouts.ironmyers.com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aujor.com/tutorial/layout-css-passo-a-passo.php" TargetMode="External"/><Relationship Id="rId2" Type="http://schemas.openxmlformats.org/officeDocument/2006/relationships/hyperlink" Target="http://www.tableless.com.br/propriedade-position-do-css" TargetMode="External"/><Relationship Id="rId3" Type="http://schemas.openxmlformats.org/officeDocument/2006/relationships/hyperlink" Target="http://www.pt-br.html.net/tutorials/css/lesson13.asp" TargetMode="External"/><Relationship Id="rId4" Type="http://schemas.openxmlformats.org/officeDocument/2006/relationships/hyperlink" Target="http://www.pt-br.html.net/tutorials/css/lesson14.as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21323898&amp;ST=SR" TargetMode="External"/><Relationship Id="rId2" Type="http://schemas.openxmlformats.org/officeDocument/2006/relationships/hyperlink" Target="http://www.lukew.com/ff/entry.asp?680" TargetMode="External"/><Relationship Id="rId3" Type="http://schemas.openxmlformats.org/officeDocument/2006/relationships/hyperlink" Target="http://www.lukew.com/ff" TargetMode="External"/><Relationship Id="rId4" Type="http://schemas.openxmlformats.org/officeDocument/2006/relationships/hyperlink" Target="http://www.maujor.com/tutorial/formac-a.php" TargetMode="External"/><Relationship Id="rId5" Type="http://schemas.openxmlformats.org/officeDocument/2006/relationships/hyperlink" Target="http://www.maujor.com/tutorial/cssforms.php" TargetMode="External"/><Relationship Id="rId6" Type="http://schemas.openxmlformats.org/officeDocument/2006/relationships/hyperlink" Target="http://www.maujor.com/tutorial/formContato.php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cordapraweb.com/formularios-totalmente-semanticos-com-html-e-css/" TargetMode="External"/><Relationship Id="rId2" Type="http://schemas.openxmlformats.org/officeDocument/2006/relationships/hyperlink" Target="http://woork.blogspot.com/2008/06/clean-and-pure-css-form-design.html" TargetMode="External"/><Relationship Id="rId3" Type="http://schemas.openxmlformats.org/officeDocument/2006/relationships/hyperlink" Target="http://www.alistapart.com/articles/sensibleforms" TargetMode="External"/><Relationship Id="rId4" Type="http://schemas.openxmlformats.org/officeDocument/2006/relationships/hyperlink" Target="http://www.lukew.com/ff/entry.asp?504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llstyled.com/css-nopreload-rollover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boratório de Informática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yout em C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D4489-54D1-4C86-AA80-9DFB2735F1E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tipo de posicionamento de um ele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largura de um elemento, obrigatório nos elementos com floa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1E779-9BE0-464F-B035-3D64A688AB7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s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esta a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www.brunocampagnolo.com/2009li/2009/11/03/layout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a aula passa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_x000b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Alguns tipo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íquido ou fluid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Elástic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 variável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terminad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ixel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dimensiona a janela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ermanec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trole exat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ão prevê resolução do usuári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200" y="6143760"/>
            <a:ext cx="8929800" cy="178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pucpr.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85920" y="1454040"/>
            <a:ext cx="67705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íquido ou fl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manho das imagen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ve te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rgura máxim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pois o texto não é redimens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líq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4200" y="6000840"/>
            <a:ext cx="8929800" cy="1930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tabcorp.com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00120" y="1571760"/>
            <a:ext cx="58928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ou preferências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exto é redimensionad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ambé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ode te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argura máxima e mín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Anteriormente trabalhamos com posicionamento CSS através do uso das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clear, position e 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objetivo de hoje é realizar algun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studos de cas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lacionados a tipos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que podem ser implementados através destas propr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4200" y="5643720"/>
            <a:ext cx="8929800" cy="228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htmldog.com/articles/elasticdesign/demo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28960" y="857160"/>
            <a:ext cx="4468680" cy="44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 variá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muda automaticamente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ara se adaptar à largura do navegador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Mudança n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úmero de colu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inclusiv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Geralmente construído vi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JavaScrip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ouco us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2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85840" y="1571760"/>
            <a:ext cx="77868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"&gt;&lt;/div&gt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4200" y="3500280"/>
            <a:ext cx="77868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onteudo { float:left; width:X%;}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lateral { float: right; width: Y%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rodape {clear: both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 + Y &lt;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07040" y="1357200"/>
            <a:ext cx="30369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3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85840" y="1571760"/>
            <a:ext cx="778680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a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b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4200" y="4071960"/>
            <a:ext cx="842976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a { float: left; width: X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b {float:right;width: Y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onteudo {margin-left:X+Z%; margin-right: Y+Z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rodape { clear:both;}                        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+Y+Z&lt;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65600" y="1285920"/>
            <a:ext cx="3578400" cy="40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920" y="857160"/>
            <a:ext cx="75582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ZENAS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de variações são possíveis apenas alterando as propriedad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width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loa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clear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rgin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in-heigh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2920" y="857160"/>
            <a:ext cx="392904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roblem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: muitas vezes é obrigatório o uso de hacks para compatibilizar com navegadores antig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43240" y="42876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Minh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Recomend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1) Deixe o problema para seu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sign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resolv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2) Aproveite ou modifique alg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ro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3) Use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ramework CS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4) Crie seu layout em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gerador de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s pro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26200" y="0"/>
            <a:ext cx="2917800" cy="2643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csseasy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layouts.ironmyer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code-sucks.com/css%20layout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glish.com/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intensivstation.ch/en/template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643800" y="5572080"/>
            <a:ext cx="228420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ramework C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! Frameworks CS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aumentam a distância do desenvolvedo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em relação ao código CS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Não são muito flexíveis e pod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sujar o códig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Bon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vitar hack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www.blueprintcss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960.g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veloper.yahoo.com/yui/grid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licious.com/bcp/css+fra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7220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1785960" cy="1190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286760" y="4429080"/>
            <a:ext cx="1562040" cy="10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Geradore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developer.yahoo.com/yui/grids/builder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positioniseverything.net/articles/pie-maker/pagemaker_form.ph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 u="sng">
                <a:solidFill>
                  <a:srgbClr val="7799cc"/>
                </a:solidFill>
                <a:uFillTx/>
                <a:latin typeface="Arial"/>
                <a:ea typeface="MS Gothic"/>
              </a:rPr>
              <a:t>http://builder.yaml.de/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29160" y="4998960"/>
            <a:ext cx="3714840" cy="1859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00080" y="4809960"/>
            <a:ext cx="400068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é err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eitura obrigatór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formulár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belas –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vit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rágrafos –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mais compatível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Listas de definiçã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v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Desafio do layout de form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8072280" cy="232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290600" y="3409920"/>
            <a:ext cx="685152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ormulário exemp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57280" y="1415880"/>
            <a:ext cx="495000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men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men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eze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er exemp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Geralmente se us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imagens de rollov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Quando o mouse passa sobre um elemento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 imagem é realinha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oll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71720" y="1785960"/>
            <a:ext cx="508140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429000" y="4357800"/>
            <a:ext cx="2668680" cy="16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1235B-3055-4885-ABC7-76E6547BBB2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Layout CSS Passo a pas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maujor.com/tutorial/layout-css-passo-a-passo.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ropriedade position do C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tableless.com.br/propriedade-position-do-c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Flutu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http://www.pt-br.html.net/tutorials/css/lesson13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osicion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4"/>
              </a:rPr>
              <a:t>http://www.pt-br.html.net/tutorials/css/lesson14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4E1A4-0FD5-4346-B3B4-6412068FA0A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Desenvolvendo CSS na Web - SIMON COLLIS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 Web Form Design: Best Practices 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Site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lukew.com/ff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onstruindo formulários acessívei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maujor.com/tutorial/formac-a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Geral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5"/>
              </a:rPr>
              <a:t>http://www.maujor.com/tutorial/cssforms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de Contat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6"/>
              </a:rPr>
              <a:t>http://www.maujor.com/tutorial/formContato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934A9-9B3A-44E7-9727-EBFB0B8700F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ww.acordapraweb.com/formularios-totalmente-semanticos-com-html-e-css/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Mais um 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http://woork.blogspot.com/2008/06/clean-and-pure-css-form-design.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hecklist de usabilidade em form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alistapart.com/articles/sensiblefor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Artigo sobre alinhamento de formulários de cadastr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lukew.com/ff/entry.asp?504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4CFC7-4D7A-497C-81F3-D3275A3849F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men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Origem da técnica de rollover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ellstyled.com/css-nopreload-rollover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SS – Guia de Bols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3DA50-55AA-4FB0-8EE5-2EA1D0A6532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20665-40A0-4057-9889-943912AE887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11-04T17:28:36Z</dcterms:modified>
  <cp:revision>892</cp:revision>
  <dc:subject/>
  <dc:title>Aula 01 - Curso Técnico</dc:title>
</cp:coreProperties>
</file>