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5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960480" y="739440"/>
            <a:ext cx="49356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914040" y="4689360"/>
            <a:ext cx="502596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3886200" y="9379080"/>
            <a:ext cx="2968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DE9BF-BCF3-42D7-954F-32E8F7CE53A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www.mandalatv.net/itp/drivebys/css/" TargetMode="External"/><Relationship Id="rId2" Type="http://schemas.openxmlformats.org/officeDocument/2006/relationships/slide" Target="../slides/slide11.xml"/><Relationship Id="rId3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B4EE4-A288-4EFF-8E04-D21B4E08C5DE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Fonte: 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Times New Roman"/>
                <a:ea typeface="MS Gothic"/>
                <a:hlinkClick r:id="rId1"/>
              </a:rPr>
              <a:t>http://www.mandalatv.net/itp/drivebys/css/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Fonte: Wikipedia (Box Mod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A5A47-B566-4949-8C77-8AF9A8EEF034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Imagem retirada de: http://www.flickr.com/photos/24413864@N05/4044264068/sizes/l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Suspendisse semper odio in dui. Donec iaculi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 justo. Donec accumsan, justo vel pharet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us, libero mauris ultrices nisl, at pulvinar en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a vitae nunc. Duis imperdiet ultrices nisi. 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landit. Praesent sed mi non nulla pulvinar ultrici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d ultricies libero vitae nulla. Nunc suscipit ni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pede. Curabitur feugiat ipsum vel nib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cursus lectus id quam. Cras nec tellus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urna mollis ornare. Nulla facilisi. Aliquam er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. Suspendisse potenti. Nam porta qua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landit es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erat volutpat. Etiam commodo massa 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. Nulla laoreet. Praesent pellentesque tellus 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. Integer lacinia neque. In hac habitasse plat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ctumst. Fusce ut velit. Morbi lacus orci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viverra, tempor et, dictum non, massa. 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tis dui dictum enim. Nulla id elit eu era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Suspendisse semper odio in dui. Donec iaculi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 justo. Donec accumsan, justo vel pharet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us, libero mauris ultrices nisl, at pulvinar en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a vitae nunc. Duis imperdiet ultrices nisi. 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landit. Praesent sed mi non nulla pulvinar ultrici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d ultricies libero vitae nulla. Nunc suscipit ni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pede. Curabitur feugiat ipsum vel nib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cursus lectus id quam. Cras nec tellus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urna mollis ornare. Nulla facilisi. Aliquam er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. Suspendisse potenti. Nam porta qua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landit es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erat volutpat. Etiam commodo massa 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. Nulla laoreet. Praesent pellentesque tellus 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. Integer lacinia neque. In hac habitasse plat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ctumst. Fusce ut velit. Morbi lacus orci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viverra, tempor et, dictum non, massa. 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tis dui dictum enim. Nulla id elit eu era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823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 e problema com container pai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26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26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igh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igh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righ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12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both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12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both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elati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wid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0%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absolu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243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elati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o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2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wid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0%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ixe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1CA35-C18E-4DDE-BA14-200FFA93C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246C5-30B4-44F8-B0B4-F15E92FD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5EA30-D468-44F2-8EAA-DC5C38B9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968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92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968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444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84E9D-CF45-459C-AF83-4B81A13D1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D5B3B-DE4F-4398-991C-E4BE52D4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EDB3D-2A90-49F5-AC79-9EA548AF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1FC17-F3B2-4444-B33B-8D489363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A1DD3-3E62-4D99-B5A5-CE7C5F9F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7120" y="174240"/>
            <a:ext cx="88023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2128C-CD3C-4BA8-9389-798F50B6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BD30A-DC60-433F-8534-B77BA2CE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9EC80-B6AF-4BDC-8EED-A9226DE5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C65F0-8511-47D6-9349-CBD0507C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59280" y="6381720"/>
            <a:ext cx="28922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Introdução ao Desenvolvimento Para Web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28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2720" y="6669000"/>
            <a:ext cx="2130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24E51-8A01-4CF7-B78A-430F9C494E7A}" type="slidenum">
              <a:rPr b="0" lang="pt-BR" sz="18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08000" y="666900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27/10/09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runocampagnolo.com/2009li/2009/10/27/posicionamento-de-elementos-em-css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lasmadesign.com.br/stupidtables/index.html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ableless.com.br/propriedade-position-do-css" TargetMode="External"/><Relationship Id="rId2" Type="http://schemas.openxmlformats.org/officeDocument/2006/relationships/hyperlink" Target="http://www.pt-br.html.net/tutorials/css/lesson13.asp" TargetMode="External"/><Relationship Id="rId3" Type="http://schemas.openxmlformats.org/officeDocument/2006/relationships/hyperlink" Target="http://www.pt-br.html.net/tutorials/css/lesson14.asp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ltabooks.tempsite.ws/capitulos_amostra/00_cssbolso.pd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eferenciando.com/referencias/html-xhtml/html-tags" TargetMode="External"/><Relationship Id="rId2" Type="http://schemas.openxmlformats.org/officeDocument/2006/relationships/hyperlink" Target="http://www.referenciando.com/referencias/html-xhtml/html-tags/style" TargetMode="External"/><Relationship Id="rId3" Type="http://schemas.openxmlformats.org/officeDocument/2006/relationships/hyperlink" Target="http://www.referenciando.com/referencias/html-xhtml/html-tags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html/elements-head" TargetMode="External"/><Relationship Id="rId2" Type="http://schemas.openxmlformats.org/officeDocument/2006/relationships/hyperlink" Target="http://reference.sitepoint.com/html/style" TargetMode="External"/><Relationship Id="rId3" Type="http://schemas.openxmlformats.org/officeDocument/2006/relationships/hyperlink" Target="http://reference.sitepoint.com/html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hyperlink" Target="http://reference.sitepoint.com/html/script" TargetMode="External"/><Relationship Id="rId6" Type="http://schemas.openxmlformats.org/officeDocument/2006/relationships/hyperlink" Target="http://www.referenciando.com/referencias/html-xhtml/html-tags/script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float" TargetMode="External"/><Relationship Id="rId3" Type="http://schemas.openxmlformats.org/officeDocument/2006/relationships/hyperlink" Target="http://reference.sitepoint.com/css/clear" TargetMode="External"/><Relationship Id="rId4" Type="http://schemas.openxmlformats.org/officeDocument/2006/relationships/hyperlink" Target="http://reference.sitepoint.com/css/position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width" TargetMode="External"/><Relationship Id="rId3" Type="http://schemas.openxmlformats.org/officeDocument/2006/relationships/hyperlink" Target="http://reference.sitepoint.com/css/left" TargetMode="External"/><Relationship Id="rId4" Type="http://schemas.openxmlformats.org/officeDocument/2006/relationships/hyperlink" Target="http://reference.sitepoint.com/css/right" TargetMode="External"/><Relationship Id="rId5" Type="http://schemas.openxmlformats.org/officeDocument/2006/relationships/hyperlink" Target="http://reference.sitepoint.com/css/top" TargetMode="External"/><Relationship Id="rId6" Type="http://schemas.openxmlformats.org/officeDocument/2006/relationships/hyperlink" Target="http://reference.sitepoint.com/css/botto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8160"/>
            <a:ext cx="791064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  <a:ea typeface="MS Gothic"/>
              </a:rPr>
              <a:t>CSS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de Elementos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029200"/>
            <a:ext cx="8101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2º Semestre 2009 &gt; PUCPR &gt; BSI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Bruno C. de Paula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760" y="3214800"/>
            <a:ext cx="79102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449EF-F580-4A93-B49F-2C4E0002DAB2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Exemplos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MS Gothic"/>
              </a:rPr>
              <a:t>Exemplos em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http://www.brunocampagnolo.com/2009li/2009/10/27/posicionamento-de-elementos-em-css/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7480" y="44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Lembre-se do Box model!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143080" y="928800"/>
            <a:ext cx="5888160" cy="5841720"/>
            <a:chOff x="2143080" y="928800"/>
            <a:chExt cx="5888160" cy="5841720"/>
          </a:xfrm>
        </p:grpSpPr>
        <p:graphicFrame>
          <p:nvGraphicFramePr>
            <p:cNvPr id="89" name=""/>
            <p:cNvGraphicFramePr/>
            <p:nvPr/>
          </p:nvGraphicFramePr>
          <p:xfrm>
            <a:off x="2143080" y="928800"/>
            <a:ext cx="5888160" cy="5841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43080" y="928800"/>
                      <a:ext cx="5888160" cy="584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" name=""/>
            <p:cNvSpPr/>
            <p:nvPr/>
          </p:nvSpPr>
          <p:spPr>
            <a:xfrm>
              <a:off x="2143080" y="928800"/>
              <a:ext cx="5888160" cy="58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Box model para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elementos em bloco</a:t>
            </a:r>
            <a:br>
              <a:rPr sz="3200"/>
            </a:b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IE (6 e 7) x Resto do Mundo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340000" y="1484280"/>
            <a:ext cx="4324320" cy="5372280"/>
            <a:chOff x="2340000" y="1484280"/>
            <a:chExt cx="4324320" cy="537228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2340000" y="1484280"/>
              <a:ext cx="4324320" cy="537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340000" y="1484280"/>
              <a:ext cx="4324320" cy="537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Visualizar o Box Model com Firebug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Instalar o Firebug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http://www.getfirebug.com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ecla F12!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9BF1E-B4E5-41AA-B851-45D98B5FFD53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71720" y="5072040"/>
            <a:ext cx="7038720" cy="14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280" y="0"/>
            <a:ext cx="8085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 Flo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2700360"/>
            <a:ext cx="5040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c5000b"/>
                </a:solidFill>
                <a:latin typeface="Verdana"/>
                <a:ea typeface="MS Gothic"/>
              </a:rPr>
              <a:t>Determina 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osicionamento</a:t>
            </a:r>
            <a:r>
              <a:rPr b="0" lang="pt-BR" sz="3200" spc="-1" strike="noStrike">
                <a:solidFill>
                  <a:srgbClr val="c5000b"/>
                </a:solidFill>
                <a:latin typeface="Verdana"/>
                <a:ea typeface="MS Gothic"/>
              </a:rPr>
              <a:t> de um elemento em relação ao fluxo da página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9308E-320E-42E6-A929-FB466F1F5E6A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00720" y="179280"/>
            <a:ext cx="3465360" cy="62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alore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lef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righ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none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float: lef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 elemento é posicionado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squer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s seguintes ficam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reit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3A29A-E877-4885-A74E-2724ECD12C20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2747880"/>
            <a:ext cx="4140360" cy="2652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319640" y="2700360"/>
            <a:ext cx="45622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60360" y="1079640"/>
            <a:ext cx="828036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float: righ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 elemento é posicionado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reit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s seguintes ficam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squer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91FF7-4361-4B79-96F9-F079B8D21B7E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3060720"/>
            <a:ext cx="4680000" cy="2879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859280" y="3068640"/>
            <a:ext cx="4230720" cy="17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7200" y="1619280"/>
            <a:ext cx="86328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79280" y="179280"/>
            <a:ext cx="88059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blema: o contâiner pai se adapta aos elementos colocados depois do elemento com o flo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777A4-8568-49D4-ACEA-5E3AF87CC130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3240000"/>
            <a:ext cx="88506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um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nhecemos, no semestre passado diversos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seletores e propriedade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CS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ambém trabalhamos com propriedades par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mensioname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(box model) de elemento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Nosso objetivo hoje será iniciar o trabalh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osicioname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e elemento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 clear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ntrola o comportamento de um elemento em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 relação ao estado de 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s elementos anteriore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alores possívei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lef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righ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both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BB120-248B-489C-ACA7-77FBEB833B2D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lef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lef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FD968-9D99-47EA-A561-C1FF48299F5B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7760" y="4114800"/>
            <a:ext cx="3162240" cy="2743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319640" y="4319640"/>
            <a:ext cx="459108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9840" y="900000"/>
            <a:ext cx="84801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righ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righ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4050A-150D-4662-8118-C1DB83C76094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9280" y="4162320"/>
            <a:ext cx="3029040" cy="2695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087800" y="4319640"/>
            <a:ext cx="4552920" cy="14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87200" y="873000"/>
            <a:ext cx="8632800" cy="39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both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qualqu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righ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qualqu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73BAC-1FD8-4AC0-BB4B-C4E31EF7004C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9840" y="4278240"/>
            <a:ext cx="2990880" cy="2381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140360" y="4319640"/>
            <a:ext cx="461952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8120" y="1225440"/>
            <a:ext cx="8651880" cy="38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olvendo o problema da adaptação do contâiner pai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	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ar um espaçador (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spac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 com clear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48CCE-378A-43BC-A332-71DA775B59BF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0680" y="2700360"/>
            <a:ext cx="3919680" cy="4140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191120" y="2519280"/>
            <a:ext cx="480852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79280" y="1619280"/>
            <a:ext cx="8640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Tipos de posicionamento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0360" y="1600200"/>
            <a:ext cx="85057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Estátic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static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Relativ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relativ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Absolut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absolut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Fix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ixed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56B93-20B1-40F4-8E9C-43EB906E5A48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um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9520" y="993600"/>
            <a:ext cx="8929800" cy="557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meçaremos a entender que usa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abelas para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é errad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Leitura obrigatória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Porque utilizar tabelas para layout é estupidez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2360" y="3600360"/>
            <a:ext cx="4427640" cy="3175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72040" y="3600360"/>
            <a:ext cx="3389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estátic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static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adrão, como os elementos são colocados po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adrã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EFE0A-4462-41CA-BA06-8466F34BBE06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60360" y="2879640"/>
            <a:ext cx="684072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relativ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relative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relaçã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ao posicionamento estátic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2CE34-58CB-4F7A-B1AA-0CE3CB195335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319640" y="3959280"/>
            <a:ext cx="4680000" cy="2700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98360" y="4078440"/>
            <a:ext cx="3581640" cy="22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absolut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absolute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relação ao canto superior esquerdo ou canto superior direito do elemento pai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“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scapa” ao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9D353-5227-4C71-9CAE-D487C483007D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9280" y="81000"/>
            <a:ext cx="4319640" cy="1898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16000" y="2160720"/>
            <a:ext cx="572436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fix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fixed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relação à janela do navegador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“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scapa” ao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EBC7D-9A88-40EC-8D5E-CE31EF9E4C8C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B41A05-11FE-4D81-8901-84344172767F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óximas aulas de CSS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214720"/>
            <a:ext cx="8553600" cy="38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808080"/>
                </a:solidFill>
                <a:latin typeface="Verdana"/>
                <a:ea typeface="MS Gothic"/>
              </a:rPr>
              <a:t>CSS Posicionamento: layouts;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808080"/>
                </a:solidFill>
                <a:latin typeface="Verdana"/>
                <a:ea typeface="MS Gothic"/>
              </a:rPr>
              <a:t>Menus, Botões e Forms.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31660-9EE5-4169-A520-D15F69C49BD7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Material referente ao assunto da aula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1143000"/>
            <a:ext cx="8831160" cy="88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ropriedade position do CS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http://www.tableless.com.br/propriedade-position-do-css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Flutuando elemento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http://www.pt-br.html.net/tutorials/css/lesson13.asp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ndo elemento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http://www.pt-br.html.net/tutorials/css/lesson14.asp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Material referente ao assunt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43240" y="1600200"/>
            <a:ext cx="472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SS – Guia de Bols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ditora AltaBook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2008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Download de um capítul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D3DB8-5B77-4C48-8CD8-F2DF5BB7A04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85840" y="1428840"/>
            <a:ext cx="3857400" cy="52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8A4F8-6E09-4E97-A33F-897C3C7B121D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7480" y="260280"/>
            <a:ext cx="905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Portugu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 –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Referenciando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920" y="1600200"/>
            <a:ext cx="910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&lt;script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32B3B-7F25-49FC-BD1E-339CCC86AD75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Ingl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 – 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&lt;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5"/>
              </a:rPr>
              <a:t>script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6"/>
              </a:rPr>
              <a:t>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) 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920" y="1600200"/>
            <a:ext cx="8831160" cy="54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etermina o posicionamento de um elemento em relação ao flux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cle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controla o comportamento de um elemento em relação ao estado de float dos anteriore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position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tipo de posicionamento de um elemento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0" y="1600200"/>
            <a:ext cx="883116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largura de um elemento, obrigatório nos elementos com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istância em relação ao limite esquerdo ou direito do elemento sendo posicionad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5"/>
              </a:rPr>
              <a:t>top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6"/>
              </a:rPr>
              <a:t>bottom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istância em relação ao limite superior ou inferior do elemento sendo posicionado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23:05:30Z</dcterms:created>
  <dc:creator>Bruno C. de Paula</dc:creator>
  <dc:description/>
  <dc:language>en-US</dc:language>
  <cp:lastModifiedBy>Bruno Campagnolo de Paula</cp:lastModifiedBy>
  <dcterms:modified xsi:type="dcterms:W3CDTF">2009-06-16T19:09:20Z</dcterms:modified>
  <cp:revision>852</cp:revision>
  <dc:subject/>
  <dc:title>Aula 01 - Curso Técnico</dc:title>
</cp:coreProperties>
</file>