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5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960480" y="739440"/>
            <a:ext cx="49356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914040" y="4689360"/>
            <a:ext cx="502596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3886200" y="9379080"/>
            <a:ext cx="2968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6B682-9D10-48F3-99E1-2879DB460E6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www.mandalatv.net/itp/drivebys/css/" TargetMode="External"/><Relationship Id="rId2" Type="http://schemas.openxmlformats.org/officeDocument/2006/relationships/slide" Target="../slides/slide11.xml"/><Relationship Id="rId3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75FFB-A4C1-4B5A-AB4A-46FF4A0A6446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Fonte: 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Times New Roman"/>
                <a:ea typeface="MS Gothic"/>
                <a:hlinkClick r:id="rId1"/>
              </a:rPr>
              <a:t>http://www.mandalatv.net/itp/drivebys/css/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Fonte: Wikipedia (Box Mod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0F4E5-F430-4BA4-8E9B-AE0E3FD2105D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Imagem retirada de: http://www.flickr.com/photos/24413864@N05/4044264068/sizes/l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Suspendisse semper odio in dui. Donec iaculi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 justo. Donec accumsan, justo vel pharet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us, libero mauris ultrices nisl, at pulvinar en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a vitae nunc. Duis imperdiet ultrices nisi. 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landit. Praesent sed mi non nulla pulvinar ultrici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d ultricies libero vitae nulla. Nunc suscipit ni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pede. Curabitur feugiat ipsum vel nib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cursus lectus id quam. Cras nec tellus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urna mollis ornare. Nulla facilisi. Aliquam er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. Suspendisse potenti. Nam porta qua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landit es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erat volutpat. Etiam commodo massa 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. Nulla laoreet. Praesent pellentesque tellus 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. Integer lacinia neque. In hac habitasse plat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ctumst. Fusce ut velit. Morbi lacus orci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viverra, tempor et, dictum non, massa. 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tis dui dictum enim. Nulla id elit eu era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Suspendisse semper odio in dui. Donec iaculi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 justo. Donec accumsan, justo vel pharet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us, libero mauris ultrices nisl, at pulvinar en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a vitae nunc. Duis imperdiet ultrices nisi. 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landit. Praesent sed mi non nulla pulvinar ultrici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d ultricies libero vitae nulla. Nunc suscipit ni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pede. Curabitur feugiat ipsum vel nib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cursus lectus id quam. Cras nec tellus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urna mollis ornare. Nulla facilisi. Aliquam er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. Suspendisse potenti. Nam porta qua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landit es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erat volutpat. Etiam commodo massa 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. Nulla laoreet. Praesent pellentesque tellus 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. Integer lacinia neque. In hac habitasse plat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ctumst. Fusce ut velit. Morbi lacus orci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viverra, tempor et, dictum non, massa. 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tis dui dictum enim. Nulla id elit eu era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823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 e problema com container pai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26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26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igh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igh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righ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12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both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12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both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elati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wid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0%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absolu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243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elati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o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2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wid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0%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ixe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C8F3A-1F22-431E-BC35-27D43ECCA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EAED4-2228-43C0-95B8-57969D97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B731C-7E2B-470A-91F4-AC64766F0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968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92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968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444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0FCF6-9642-414D-8A20-88AA78B3D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61956-6EA2-4C08-BFE0-B41E03DD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A5600-5267-4CC0-8A1F-102A0BC0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4A130-3815-4B61-B247-496C8E28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376C8-573D-4906-93F7-E091FDF8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7120" y="174240"/>
            <a:ext cx="88023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ACCF1-886F-4424-9D3D-1DD71787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4127C-B6EF-471E-B42A-7564D6D3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0F3A4-43BA-4B0C-B9FD-6E5D5ECE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55E8F-C4B4-4022-A1E2-F1048E75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59280" y="6381720"/>
            <a:ext cx="28922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Introdução ao Desenvolvimento Para Web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28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2720" y="6669000"/>
            <a:ext cx="2130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3B4D9-591D-4800-A1BF-902B3ECBBBAF}" type="slidenum">
              <a:rPr b="0" lang="pt-BR" sz="18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08000" y="666900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27/10/09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runocampagnolo.com/2009li/2009/10/27/posicionamento-de-elementos-em-css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lasmadesign.com.br/stupidtables/index.html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ableless.com.br/propriedade-position-do-css" TargetMode="External"/><Relationship Id="rId2" Type="http://schemas.openxmlformats.org/officeDocument/2006/relationships/hyperlink" Target="http://www.pt-br.html.net/tutorials/css/lesson13.asp" TargetMode="External"/><Relationship Id="rId3" Type="http://schemas.openxmlformats.org/officeDocument/2006/relationships/hyperlink" Target="http://www.pt-br.html.net/tutorials/css/lesson14.asp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ltabooks.tempsite.ws/capitulos_amostra/00_cssbolso.pd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eferenciando.com/referencias/html-xhtml/html-tags" TargetMode="External"/><Relationship Id="rId2" Type="http://schemas.openxmlformats.org/officeDocument/2006/relationships/hyperlink" Target="http://www.referenciando.com/referencias/html-xhtml/html-tags/style" TargetMode="External"/><Relationship Id="rId3" Type="http://schemas.openxmlformats.org/officeDocument/2006/relationships/hyperlink" Target="http://www.referenciando.com/referencias/html-xhtml/html-tags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html/elements-head" TargetMode="External"/><Relationship Id="rId2" Type="http://schemas.openxmlformats.org/officeDocument/2006/relationships/hyperlink" Target="http://reference.sitepoint.com/html/style" TargetMode="External"/><Relationship Id="rId3" Type="http://schemas.openxmlformats.org/officeDocument/2006/relationships/hyperlink" Target="http://reference.sitepoint.com/html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hyperlink" Target="http://reference.sitepoint.com/html/script" TargetMode="External"/><Relationship Id="rId6" Type="http://schemas.openxmlformats.org/officeDocument/2006/relationships/hyperlink" Target="http://www.referenciando.com/referencias/html-xhtml/html-tags/script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float" TargetMode="External"/><Relationship Id="rId3" Type="http://schemas.openxmlformats.org/officeDocument/2006/relationships/hyperlink" Target="http://reference.sitepoint.com/css/clear" TargetMode="External"/><Relationship Id="rId4" Type="http://schemas.openxmlformats.org/officeDocument/2006/relationships/hyperlink" Target="http://reference.sitepoint.com/css/position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width" TargetMode="External"/><Relationship Id="rId3" Type="http://schemas.openxmlformats.org/officeDocument/2006/relationships/hyperlink" Target="http://reference.sitepoint.com/css/left" TargetMode="External"/><Relationship Id="rId4" Type="http://schemas.openxmlformats.org/officeDocument/2006/relationships/hyperlink" Target="http://reference.sitepoint.com/css/right" TargetMode="External"/><Relationship Id="rId5" Type="http://schemas.openxmlformats.org/officeDocument/2006/relationships/hyperlink" Target="http://reference.sitepoint.com/css/top" TargetMode="External"/><Relationship Id="rId6" Type="http://schemas.openxmlformats.org/officeDocument/2006/relationships/hyperlink" Target="http://reference.sitepoint.com/css/botto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8160"/>
            <a:ext cx="791064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  <a:ea typeface="MS Gothic"/>
              </a:rPr>
              <a:t>CSS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de Elementos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029200"/>
            <a:ext cx="8101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2º Semestre 2009 &gt; PUCPR &gt; BSI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Bruno C. de Paula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760" y="3214800"/>
            <a:ext cx="79102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7FFD5-F3E8-4614-BC3B-A190890C76F2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Exemplos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MS Gothic"/>
              </a:rPr>
              <a:t>Exemplos em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http://www.brunocampagnolo.com/2009li/2009/10/27/posicionamento-de-elementos-em-css/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7480" y="44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Lembre-se do Box model!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143080" y="928800"/>
            <a:ext cx="5888160" cy="5841720"/>
            <a:chOff x="2143080" y="928800"/>
            <a:chExt cx="5888160" cy="5841720"/>
          </a:xfrm>
        </p:grpSpPr>
        <p:graphicFrame>
          <p:nvGraphicFramePr>
            <p:cNvPr id="89" name=""/>
            <p:cNvGraphicFramePr/>
            <p:nvPr/>
          </p:nvGraphicFramePr>
          <p:xfrm>
            <a:off x="2143080" y="928800"/>
            <a:ext cx="5888160" cy="5841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43080" y="928800"/>
                      <a:ext cx="5888160" cy="584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" name=""/>
            <p:cNvSpPr/>
            <p:nvPr/>
          </p:nvSpPr>
          <p:spPr>
            <a:xfrm>
              <a:off x="2143080" y="928800"/>
              <a:ext cx="5888160" cy="58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Box model para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elementos em bloco</a:t>
            </a:r>
            <a:br>
              <a:rPr sz="3200"/>
            </a:b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IE (6 e 7) x Resto do Mundo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340000" y="1484280"/>
            <a:ext cx="4324320" cy="5372280"/>
            <a:chOff x="2340000" y="1484280"/>
            <a:chExt cx="4324320" cy="537228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2340000" y="1484280"/>
              <a:ext cx="4324320" cy="537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340000" y="1484280"/>
              <a:ext cx="4324320" cy="537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Visualizar o Box Model com Firebug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Instalar o Firebug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http://www.getfirebug.com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ecla F12!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CE0C0-7724-4AF2-A0F7-4887D7C2BE45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71720" y="5072040"/>
            <a:ext cx="7038720" cy="14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280" y="0"/>
            <a:ext cx="8085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 Flo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2700360"/>
            <a:ext cx="5040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c5000b"/>
                </a:solidFill>
                <a:latin typeface="Verdana"/>
                <a:ea typeface="MS Gothic"/>
              </a:rPr>
              <a:t>Determina 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osicionamento</a:t>
            </a:r>
            <a:r>
              <a:rPr b="0" lang="pt-BR" sz="3200" spc="-1" strike="noStrike">
                <a:solidFill>
                  <a:srgbClr val="c5000b"/>
                </a:solidFill>
                <a:latin typeface="Verdana"/>
                <a:ea typeface="MS Gothic"/>
              </a:rPr>
              <a:t> de um elemento em relação ao fluxo da página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67CF7-8723-4EEB-A179-BF5827D68778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00720" y="179280"/>
            <a:ext cx="3465360" cy="62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alore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lef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righ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none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float: lef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 elemento é posicionado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squer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s seguintes ficam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reit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B5B4B-5B39-4E57-AA9A-DFB6692B03EE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2747880"/>
            <a:ext cx="4140360" cy="2652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319640" y="2700360"/>
            <a:ext cx="45622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60360" y="1079640"/>
            <a:ext cx="828036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float: righ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 elemento é posicionado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reit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s seguintes ficam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squer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605F9-2E65-4645-94E7-322AB1A1A3CC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3060720"/>
            <a:ext cx="4680000" cy="2879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859280" y="3068640"/>
            <a:ext cx="4230720" cy="17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7200" y="1619280"/>
            <a:ext cx="86328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79280" y="179280"/>
            <a:ext cx="88059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blema: o contâiner pai se adapta aos elementos colocados depois do elemento com o flo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D2B97-1054-4316-8B77-323C7B90B5C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3240000"/>
            <a:ext cx="88506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um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nhecemos, no semestre passado diversos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seletores e propriedade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CS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ambém trabalhamos com propriedades par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mensioname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(box model) de elemento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Nosso objetivo hoje será iniciar o trabalh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osicioname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e elemento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 clear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ntrola o comportamento de um elemento em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 relação ao estado de 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s elementos anteriore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alores possívei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lef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righ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both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282A3-5223-4626-A060-31F51C1EFADF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lef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lef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21872-94B2-4FF9-996E-08312AC056BF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7760" y="4114800"/>
            <a:ext cx="3162240" cy="2743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319640" y="4319640"/>
            <a:ext cx="459108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9840" y="900000"/>
            <a:ext cx="84801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righ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righ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83FEA-2F5E-48D4-93A4-4FA033DBBF73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9280" y="4162320"/>
            <a:ext cx="3029040" cy="2695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087800" y="4319640"/>
            <a:ext cx="4552920" cy="14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87200" y="873000"/>
            <a:ext cx="8632800" cy="39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both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qualqu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righ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qualqu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3C834-6763-4DE7-901F-65961A6891A4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9840" y="4278240"/>
            <a:ext cx="2990880" cy="2381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140360" y="4319640"/>
            <a:ext cx="461952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8120" y="1225440"/>
            <a:ext cx="8651880" cy="38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olvendo o problema da adaptação do contâiner pai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	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ar um espaçador (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spac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 com clear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7D90C-6B70-4748-9176-0BE7C68D5C48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0680" y="2700360"/>
            <a:ext cx="3919680" cy="4140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191120" y="2519280"/>
            <a:ext cx="480852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79280" y="1619280"/>
            <a:ext cx="8640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Tipos de posicionamento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0360" y="1600200"/>
            <a:ext cx="85057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Estátic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static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Relativ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relativ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Absolut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absolut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Fix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ixed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BF782-C2B4-4A62-A9D1-561789C9A32A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um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9520" y="993600"/>
            <a:ext cx="8929800" cy="557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meçaremos a entender que usa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abelas para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é errad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Leitura obrigatória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Porque utilizar tabelas para layout é estupidez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2360" y="3600360"/>
            <a:ext cx="4427640" cy="3175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72040" y="3600360"/>
            <a:ext cx="3389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estátic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static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adrão, como os elementos são colocados po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adrã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295F3-E00A-4FCC-89D8-933CE47B800D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60360" y="2879640"/>
            <a:ext cx="684072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relativ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relative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relaçã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ao posicionamento estátic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E36A0-C9C2-40C4-98E4-74E2AF7E3578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319640" y="3959280"/>
            <a:ext cx="4680000" cy="2700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98360" y="4078440"/>
            <a:ext cx="3581640" cy="22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absolut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absolute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relação ao canto superior esquerdo ou canto superior direito do elemento pai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“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scapa” ao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69A34-5D23-440D-AF99-42E91DD5C7C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9280" y="81000"/>
            <a:ext cx="4319640" cy="1898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16000" y="2160720"/>
            <a:ext cx="572436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fix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fixed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relação à janela do navegador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“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scapa” ao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96D57-F4AB-439E-93FD-20426D3B6A31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393AB-182D-46D6-99D8-85E4A2145855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óximas aulas de CSS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214720"/>
            <a:ext cx="8553600" cy="38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808080"/>
                </a:solidFill>
                <a:latin typeface="Verdana"/>
                <a:ea typeface="MS Gothic"/>
              </a:rPr>
              <a:t>CSS Posicionamento: layouts;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808080"/>
                </a:solidFill>
                <a:latin typeface="Verdana"/>
                <a:ea typeface="MS Gothic"/>
              </a:rPr>
              <a:t>Menus, Botões e Forms.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F4F1F-9002-483E-99CE-5E667956B602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Material referente ao assunto da aula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1143000"/>
            <a:ext cx="8831160" cy="88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ropriedade position do CS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http://www.tableless.com.br/propriedade-position-do-css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Flutuando elemento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http://www.pt-br.html.net/tutorials/css/lesson13.asp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ndo elemento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http://www.pt-br.html.net/tutorials/css/lesson14.asp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Material referente ao assunt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43240" y="1600200"/>
            <a:ext cx="472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SS – Guia de Bols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ditora AltaBook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2008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Download de um capítul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FC2A4-C3DC-43EE-AD36-7A21151E3C17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85840" y="1428840"/>
            <a:ext cx="3857400" cy="52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8807E-A202-40AD-AED2-9CBB6F9FDE1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7480" y="260280"/>
            <a:ext cx="905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Portugu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 –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Referenciando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920" y="1600200"/>
            <a:ext cx="910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&lt;script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D0FF4-EC0B-42D5-9842-EBE28DD034B1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Ingl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 – 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&lt;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5"/>
              </a:rPr>
              <a:t>script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6"/>
              </a:rPr>
              <a:t>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) 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920" y="1600200"/>
            <a:ext cx="8831160" cy="54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etermina o posicionamento de um elemento em relação ao flux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cle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controla o comportamento de um elemento em relação ao estado de float dos anteriore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position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tipo de posicionamento de um elemento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0" y="1600200"/>
            <a:ext cx="883116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largura de um elemento, obrigatório nos elementos com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istância em relação ao limite esquerdo ou direito do elemento sendo posicionad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5"/>
              </a:rPr>
              <a:t>top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6"/>
              </a:rPr>
              <a:t>bottom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istância em relação ao limite superior ou inferior do elemento sendo posicionado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23:05:30Z</dcterms:created>
  <dc:creator>Bruno C. de Paula</dc:creator>
  <dc:description/>
  <dc:language>en-US</dc:language>
  <cp:lastModifiedBy>Bruno Campagnolo de Paula</cp:lastModifiedBy>
  <dcterms:modified xsi:type="dcterms:W3CDTF">2009-06-16T19:09:20Z</dcterms:modified>
  <cp:revision>852</cp:revision>
  <dc:subject/>
  <dc:title>Aula 01 - Curso Técnico</dc:title>
</cp:coreProperties>
</file>