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5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8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960480" y="739440"/>
            <a:ext cx="49356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914040" y="4689360"/>
            <a:ext cx="502596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3886200" y="9379080"/>
            <a:ext cx="2968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46365-82F8-46AB-8BD9-77B3F3B41B5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www.mandalatv.net/itp/drivebys/css/" TargetMode="External"/><Relationship Id="rId2" Type="http://schemas.openxmlformats.org/officeDocument/2006/relationships/slide" Target="../slides/slide11.xml"/><Relationship Id="rId3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BCCD5-CA69-4075-952C-B816C410FEF6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Fonte: 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Times New Roman"/>
                <a:ea typeface="MS Gothic"/>
                <a:hlinkClick r:id="rId1"/>
              </a:rPr>
              <a:t>http://www.mandalatv.net/itp/drivebys/css/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Fonte: Wikipedia (Box Mod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977AF-C828-44E4-92E2-E563A061EDFC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Imagem retirada de: http://www.flickr.com/photos/24413864@N05/4044264068/sizes/l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Suspendisse semper odio in dui. Donec iaculi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 justo. Donec accumsan, justo vel pharet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us, libero mauris ultrices nisl, at pulvinar en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a vitae nunc. Duis imperdiet ultrices nisi. 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landit. Praesent sed mi non nulla pulvinar ultrici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d ultricies libero vitae nulla. Nunc suscipit ni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pede. Curabitur feugiat ipsum vel nib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cursus lectus id quam. Cras nec tellus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urna mollis ornare. Nulla facilisi. Aliquam er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. Suspendisse potenti. Nam porta qua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landit es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erat volutpat. Etiam commodo massa 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. Nulla laoreet. Praesent pellentesque tellus 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. Integer lacinia neque. In hac habitasse plat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ctumst. Fusce ut velit. Morbi lacus orci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viverra, tempor et, dictum non, massa. 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tis dui dictum enim. Nulla id elit eu era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Suspendisse semper odio in dui. Donec iaculi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 justo. Donec accumsan, justo vel pharet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us, libero mauris ultrices nisl, at pulvinar en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a vitae nunc. Duis imperdiet ultrices nisi. 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landit. Praesent sed mi non nulla pulvinar ultrici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d ultricies libero vitae nulla. Nunc suscipit ni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pede. Curabitur feugiat ipsum vel nib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cursus lectus id quam. Cras nec tellus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urna mollis ornare. Nulla facilisi. Aliquam er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. Suspendisse potenti. Nam porta qua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landit es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erat volutpat. Etiam commodo massa 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. Nulla laoreet. Praesent pellentesque tellus 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. Integer lacinia neque. In hac habitasse plat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ctumst. Fusce ut velit. Morbi lacus orci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viverra, tempor et, dictum non, massa. 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tis dui dictum enim. Nulla id elit eu era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823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 e problema com container pai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26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26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igh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igh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righ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12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both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12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both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elati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wid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0%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absolu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243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elati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o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2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wid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0%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ixe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EB1DB-6427-4F37-8F0A-56B59BBDC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DB70F-B978-458D-A713-515F7492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A92A5-246B-405C-A350-48FB36F07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968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92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1968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444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396BD-788B-482C-9D30-AD03F52A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A7D0E-C1B4-491D-9E2F-FE0CD904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3B2BF-A2A8-4D51-858D-4EDDF18C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C8717-D932-40C9-84C4-F39AA0A1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85FF7-F4D1-43F7-963B-2FF6CC60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7120" y="174240"/>
            <a:ext cx="88023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77A1A-2A5A-4A07-92A5-DD5E864A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7D59A-85DE-4743-B4F0-14922261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BF340-177F-48BA-A8A0-06B13B86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7F8C2-0863-4EDA-B3BD-B10FE342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59280" y="6381720"/>
            <a:ext cx="28922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Introdução ao Desenvolvimento Para Web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28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964720" y="0"/>
            <a:ext cx="17928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2720" y="6669000"/>
            <a:ext cx="2130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493EB-6D15-4216-962F-61BC50F7D135}" type="slidenum">
              <a:rPr b="0" lang="pt-BR" sz="18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08000" y="666900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27/10/09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runocampagnolo.com/2009li/2009/10/27/posicionamento-de-elementos-em-css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lasmadesign.com.br/stupidtables/index.html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ableless.com.br/propriedade-position-do-css" TargetMode="External"/><Relationship Id="rId2" Type="http://schemas.openxmlformats.org/officeDocument/2006/relationships/hyperlink" Target="http://www.pt-br.html.net/tutorials/css/lesson13.asp" TargetMode="External"/><Relationship Id="rId3" Type="http://schemas.openxmlformats.org/officeDocument/2006/relationships/hyperlink" Target="http://www.pt-br.html.net/tutorials/css/lesson14.asp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ltabooks.tempsite.ws/capitulos_amostra/00_cssbolso.pd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eferenciando.com/referencias/html-xhtml/html-tags" TargetMode="External"/><Relationship Id="rId2" Type="http://schemas.openxmlformats.org/officeDocument/2006/relationships/hyperlink" Target="http://www.referenciando.com/referencias/html-xhtml/html-tags/style" TargetMode="External"/><Relationship Id="rId3" Type="http://schemas.openxmlformats.org/officeDocument/2006/relationships/hyperlink" Target="http://www.referenciando.com/referencias/html-xhtml/html-tags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html/elements-head" TargetMode="External"/><Relationship Id="rId2" Type="http://schemas.openxmlformats.org/officeDocument/2006/relationships/hyperlink" Target="http://reference.sitepoint.com/html/style" TargetMode="External"/><Relationship Id="rId3" Type="http://schemas.openxmlformats.org/officeDocument/2006/relationships/hyperlink" Target="http://reference.sitepoint.com/html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hyperlink" Target="http://reference.sitepoint.com/html/script" TargetMode="External"/><Relationship Id="rId6" Type="http://schemas.openxmlformats.org/officeDocument/2006/relationships/hyperlink" Target="http://www.referenciando.com/referencias/html-xhtml/html-tags/script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float" TargetMode="External"/><Relationship Id="rId3" Type="http://schemas.openxmlformats.org/officeDocument/2006/relationships/hyperlink" Target="http://reference.sitepoint.com/css/clear" TargetMode="External"/><Relationship Id="rId4" Type="http://schemas.openxmlformats.org/officeDocument/2006/relationships/hyperlink" Target="http://reference.sitepoint.com/css/position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width" TargetMode="External"/><Relationship Id="rId3" Type="http://schemas.openxmlformats.org/officeDocument/2006/relationships/hyperlink" Target="http://reference.sitepoint.com/css/left" TargetMode="External"/><Relationship Id="rId4" Type="http://schemas.openxmlformats.org/officeDocument/2006/relationships/hyperlink" Target="http://reference.sitepoint.com/css/right" TargetMode="External"/><Relationship Id="rId5" Type="http://schemas.openxmlformats.org/officeDocument/2006/relationships/hyperlink" Target="http://reference.sitepoint.com/css/top" TargetMode="External"/><Relationship Id="rId6" Type="http://schemas.openxmlformats.org/officeDocument/2006/relationships/hyperlink" Target="http://reference.sitepoint.com/css/bottom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38160"/>
            <a:ext cx="791064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  <a:ea typeface="MS Gothic"/>
              </a:rPr>
              <a:t>CSS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de Elementos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029200"/>
            <a:ext cx="8101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2º Semestre 2009 &gt; PUCPR &gt; BSI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Bruno C. de Paula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760" y="3214800"/>
            <a:ext cx="79102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097A1-5890-4870-98A2-EAA7A52C55E4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Exemplos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MS Gothic"/>
              </a:rPr>
              <a:t>Exemplos em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http://www.brunocampagnolo.com/2009li/2009/10/27/posicionamento-de-elementos-em-css/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7480" y="44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Lembre-se do Box model!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143080" y="928800"/>
            <a:ext cx="5888160" cy="5841720"/>
            <a:chOff x="2143080" y="928800"/>
            <a:chExt cx="5888160" cy="5841720"/>
          </a:xfrm>
        </p:grpSpPr>
        <p:graphicFrame>
          <p:nvGraphicFramePr>
            <p:cNvPr id="89" name=""/>
            <p:cNvGraphicFramePr/>
            <p:nvPr/>
          </p:nvGraphicFramePr>
          <p:xfrm>
            <a:off x="2143080" y="928800"/>
            <a:ext cx="5888160" cy="5841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43080" y="928800"/>
                      <a:ext cx="5888160" cy="584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" name=""/>
            <p:cNvSpPr/>
            <p:nvPr/>
          </p:nvSpPr>
          <p:spPr>
            <a:xfrm>
              <a:off x="2143080" y="928800"/>
              <a:ext cx="5888160" cy="58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Box model para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elementos em bloco</a:t>
            </a:r>
            <a:br>
              <a:rPr sz="3200"/>
            </a:b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IE (6 e 7) x Resto do Mundo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340000" y="1484280"/>
            <a:ext cx="4324320" cy="5372280"/>
            <a:chOff x="2340000" y="1484280"/>
            <a:chExt cx="4324320" cy="537228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2340000" y="1484280"/>
              <a:ext cx="4324320" cy="537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340000" y="1484280"/>
              <a:ext cx="4324320" cy="537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Visualizar o Box Model com Firebug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Instalar o Firebug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http://www.getfirebug.com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ecla F12!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DF731-A51D-4EF9-A0CB-BA692D111124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71720" y="5072040"/>
            <a:ext cx="7038720" cy="14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9280" y="0"/>
            <a:ext cx="80852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 Flo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2700360"/>
            <a:ext cx="5040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c5000b"/>
                </a:solidFill>
                <a:latin typeface="Verdana"/>
                <a:ea typeface="MS Gothic"/>
              </a:rPr>
              <a:t>Determina 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osicionamento</a:t>
            </a:r>
            <a:r>
              <a:rPr b="0" lang="pt-BR" sz="3200" spc="-1" strike="noStrike">
                <a:solidFill>
                  <a:srgbClr val="c5000b"/>
                </a:solidFill>
                <a:latin typeface="Verdana"/>
                <a:ea typeface="MS Gothic"/>
              </a:rPr>
              <a:t> de um elemento em relação ao fluxo da página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695DD-FD85-41ED-8A9D-6696DE17D2E1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00720" y="179280"/>
            <a:ext cx="3465360" cy="62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alore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lef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righ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none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float: lef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 elemento é posicionado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squer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s seguintes ficam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reit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B95BE-14B3-4547-9B2A-C0E3EF40B287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9280" y="2747880"/>
            <a:ext cx="4140360" cy="2652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319640" y="2700360"/>
            <a:ext cx="45622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60360" y="1079640"/>
            <a:ext cx="828036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float: righ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 elemento é posicionado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reit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s seguintes ficam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squer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677DD-DE0B-454F-83F0-542AABBA3A52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3060720"/>
            <a:ext cx="4680000" cy="2879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859280" y="3068640"/>
            <a:ext cx="4230720" cy="17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7200" y="1619280"/>
            <a:ext cx="86328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79280" y="179280"/>
            <a:ext cx="88059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blema: o contâiner pai se adapta aos elementos colocados depois do elemento com o flo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5001C-1B88-4D14-9133-F988BD93C8F8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3240000"/>
            <a:ext cx="88506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um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nhecemos, no semestre passado diversos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seletores e propriedade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CS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ambém trabalhamos com propriedades par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mensioname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(box model) de elemento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Nosso objetivo hoje será iniciar o trabalh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osicioname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e elemento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 clear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ntrola o comportamento de um elemento em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 relação ao estado de 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s elementos anteriore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alores possívei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lef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righ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both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15F13-32F8-4218-89D4-3350FB1A49F7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lef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lef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162CD-8FB6-42BE-9384-3B888999D9F6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7760" y="4114800"/>
            <a:ext cx="3162240" cy="2743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319640" y="4319640"/>
            <a:ext cx="459108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39840" y="900000"/>
            <a:ext cx="84801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righ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righ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1A6D2-88B9-4CE6-A6D3-8B2E67918D7D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9280" y="4162320"/>
            <a:ext cx="3029040" cy="2695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087800" y="4319640"/>
            <a:ext cx="4552920" cy="14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87200" y="873000"/>
            <a:ext cx="8632800" cy="39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both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qualqu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righ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qualqu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D5CA1-A879-44A8-AC98-FB8B392A34F7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9840" y="4278240"/>
            <a:ext cx="2990880" cy="2381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140360" y="4319640"/>
            <a:ext cx="461952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8120" y="1225440"/>
            <a:ext cx="8651880" cy="38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olvendo o problema da adaptação do contâiner pai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	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ar um espaçador (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spac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 com clear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2A099-6943-40BA-A9F8-47EED2A42DFF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0680" y="2700360"/>
            <a:ext cx="3919680" cy="4140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191120" y="2519280"/>
            <a:ext cx="480852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79280" y="1619280"/>
            <a:ext cx="8640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Tipos de posicionamento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0360" y="1600200"/>
            <a:ext cx="850572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Estátic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static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Relativ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relativ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Absolut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absolut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Fix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ixed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1BB10-C00E-48B5-8652-26B372D65F85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um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9520" y="993600"/>
            <a:ext cx="8929800" cy="557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meçaremos a entender que usa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abelas para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é errad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Leitura obrigatória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Porque utilizar tabelas para layout é estupidez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2360" y="3600360"/>
            <a:ext cx="4427640" cy="3175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072040" y="3600360"/>
            <a:ext cx="33894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estátic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static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adrão, como os elementos são colocados po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adrã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103D3-FF48-4F09-B002-D55D13CB5957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60360" y="2879640"/>
            <a:ext cx="684072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relativ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relative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relaçã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ao posicionamento estátic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C86AC-AE05-46A2-A9D8-37D86DBAFE87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319640" y="3959280"/>
            <a:ext cx="4680000" cy="2700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98360" y="4078440"/>
            <a:ext cx="3581640" cy="22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absolut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absolute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relação ao canto superior esquerdo ou canto superior direito do elemento pai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“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scapa” ao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E26D2-FFA9-46E9-B200-99476CB547ED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9280" y="81000"/>
            <a:ext cx="4319640" cy="1898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16000" y="2160720"/>
            <a:ext cx="572436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fix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fixed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relação à janela do navegador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“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scapa” ao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574B1-801C-46F7-9AF7-AACCB5B85A9B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8BD40-1CF2-4D4B-8E3D-A89D5419A1C1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óximas aulas de CSS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214720"/>
            <a:ext cx="8553600" cy="38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808080"/>
                </a:solidFill>
                <a:latin typeface="Verdana"/>
                <a:ea typeface="MS Gothic"/>
              </a:rPr>
              <a:t>CSS Posicionamento: layouts;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808080"/>
                </a:solidFill>
                <a:latin typeface="Verdana"/>
                <a:ea typeface="MS Gothic"/>
              </a:rPr>
              <a:t>Menus, Botões e Forms.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24AD0-D178-4A8C-AE04-1471EEA10D1B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Material referente ao assunto da aula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1143000"/>
            <a:ext cx="8831160" cy="88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ropriedade position do CS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http://www.tableless.com.br/propriedade-position-do-css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Flutuando elemento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http://www.pt-br.html.net/tutorials/css/lesson13.asp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ndo elemento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http://www.pt-br.html.net/tutorials/css/lesson14.asp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Material referente ao assunt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43240" y="1600200"/>
            <a:ext cx="4722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SS – Guia de Bols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ditora AltaBook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2008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Download de um capítul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170B1-2083-47E8-AA2B-AE5C620C8709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85840" y="1428840"/>
            <a:ext cx="3857400" cy="52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129D6-4BC0-4479-8A37-3C850DD04092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7480" y="260280"/>
            <a:ext cx="905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Portugu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 –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Referenciando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920" y="1600200"/>
            <a:ext cx="910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&lt;script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05CE7-21C4-4AF6-A29B-59D045995172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Ingl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 – 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&lt;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5"/>
              </a:rPr>
              <a:t>script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6"/>
              </a:rPr>
              <a:t>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) 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920" y="1600200"/>
            <a:ext cx="8831160" cy="54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etermina o posicionamento de um elemento em relação ao flux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cle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controla o comportamento de um elemento em relação ao estado de float dos anteriore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position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tipo de posicionamento de um elemento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0" y="1600200"/>
            <a:ext cx="883116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largura de um elemento, obrigatório nos elementos com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istância em relação ao limite esquerdo ou direito do elemento sendo posicionad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5"/>
              </a:rPr>
              <a:t>top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6"/>
              </a:rPr>
              <a:t>bottom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istância em relação ao limite superior ou inferior do elemento sendo posicionado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23:05:30Z</dcterms:created>
  <dc:creator>Bruno C. de Paula</dc:creator>
  <dc:description/>
  <dc:language>en-US</dc:language>
  <cp:lastModifiedBy>Bruno Campagnolo de Paula</cp:lastModifiedBy>
  <dcterms:modified xsi:type="dcterms:W3CDTF">2009-06-16T19:09:20Z</dcterms:modified>
  <cp:revision>852</cp:revision>
  <dc:subject/>
  <dc:title>Aula 01 - Curso Técnico</dc:title>
</cp:coreProperties>
</file>